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6.png" ContentType="image/png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.png" ContentType="image/png"/>
  <Override PartName="/ppt/media/image13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7.wmf" ContentType="image/x-wmf"/>
  <Override PartName="/ppt/media/image10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.jpeg" ContentType="image/jpeg"/>
  <Override PartName="/ppt/media/image2.png" ContentType="image/png"/>
  <Override PartName="/ppt/media/image14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63.wmf" ContentType="image/x-wmf"/>
  <Override PartName="/ppt/media/image64.wmf" ContentType="image/x-wmf"/>
  <Override PartName="/ppt/media/image93.wmf" ContentType="image/x-wmf"/>
  <Override PartName="/ppt/media/image28.wmf" ContentType="image/x-wmf"/>
  <Override PartName="/ppt/media/image70.wmf" ContentType="image/x-wmf"/>
  <Override PartName="/ppt/media/image65.wmf" ContentType="image/x-wmf"/>
  <Override PartName="/ppt/media/image94.wmf" ContentType="image/x-wmf"/>
  <Override PartName="/ppt/media/image29.wmf" ContentType="image/x-wmf"/>
  <Override PartName="/ppt/media/image71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72.wmf" ContentType="image/x-wmf"/>
  <Override PartName="/ppt/media/image62.wmf" ContentType="image/x-wmf"/>
  <Override PartName="/ppt/media/image97.wmf" ContentType="image/x-wmf"/>
  <Override PartName="/ppt/media/image73.wmf" ContentType="image/x-wmf"/>
  <Override PartName="/ppt/media/image61.wmf" ContentType="image/x-wmf"/>
  <Override PartName="/ppt/media/image96.wmf" ContentType="image/x-wmf"/>
  <Override PartName="/ppt/media/image95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8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92.wmf" ContentType="image/x-wmf"/>
  <Override PartName="/ppt/media/image27.wmf" ContentType="image/x-wmf"/>
  <Override PartName="/ppt/media/image91.wmf" ContentType="image/x-wmf"/>
  <Override PartName="/ppt/media/image26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60.jpeg" ContentType="image/jpeg"/>
  <Override PartName="/ppt/media/image21.wmf" ContentType="image/x-wmf"/>
  <Override PartName="/ppt/media/image58.wmf" ContentType="image/x-wmf"/>
  <Override PartName="/ppt/media/image17.wmf" ContentType="image/x-wmf"/>
  <Override PartName="/ppt/media/image82.wmf" ContentType="image/x-wmf"/>
  <Override PartName="/ppt/media/image16.png" ContentType="image/png"/>
  <Override PartName="/ppt/media/image56.wmf" ContentType="image/x-wmf"/>
  <Override PartName="/ppt/media/image15.wmf" ContentType="image/x-wmf"/>
  <Override PartName="/ppt/media/image80.wmf" ContentType="image/x-wmf"/>
  <Override PartName="/ppt/media/image1.jpeg" ContentType="image/jpeg"/>
  <Override PartName="/ppt/media/image8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54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88F0-1246-4DED-B96E-6E0E882E3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7CD0-F16D-43FA-9B39-69E7C4997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748-A5E2-40BD-8E3D-B961F630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E89-6689-4030-ACED-22D13110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567A4-8F43-42BC-9265-0BCB4C02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CB9A9-ACDA-47F3-9815-89B72DA0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82133-CB32-43C1-B3AA-959062FF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AE368-0775-4638-A789-9F68ECA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78DAF-05B9-4A82-ABB4-FC12A82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8F0A6-5B64-4557-9AA5-506DA974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F230F-675C-4814-A862-D9E8984D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5B7DC-F3E6-4A87-BA8D-858516A2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5356B-C998-4803-8138-0B02F90F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B4015-CBE1-4FAF-8530-326282E0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52E-6DFB-4689-8CAF-4F4F5F4E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6D94C-646D-424A-842F-9D408C4D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70B44-2F23-45A1-BC37-FADD1E22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9A78D-10A8-4926-803E-A3969394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9E9AB-81F1-4554-AE68-D3A557C8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6B688-2998-4701-91E3-B8D4CC36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F9EDB-6D71-4541-8ED3-3210B5E7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71876-3ED6-45B1-BB8B-16E9A427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BBE80-A43E-4355-B688-C4EEA8CF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89F4F-5DDB-41B0-8FC2-6C14242C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2FE1B-E44E-4DC0-B4C0-A5CA06D7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ECC-C6CA-47AD-87FA-440215CF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315D5-216A-40F4-BE1C-1F856733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6850A-B491-4F05-95B7-BAF7CB5C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2FD6C-32D7-4136-B71E-F6B5F489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53E52-5B43-4CDD-9849-C6D0EE16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6610F-DF70-483B-8E30-9B078F75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4E8E0-F890-4871-A054-A748783F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F03F5-FF5F-4035-A339-99FB66C1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185D2-CF66-401A-987A-5F7D2D8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F9295-DB55-4C0C-AAE0-D540412E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7C722-3E78-4B00-965F-080592D6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51F6-E3D5-47AC-95C7-D04B6C76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FFDD5-DE62-4B26-A9A7-65308857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4E5D9-C92B-491A-9429-2423EB2D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78FFB-2078-45FC-B0C2-953233C0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4C1E9-535B-4527-A72B-DFF9113A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51F0E-D6FA-469B-B4B8-4F6ADFCD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03718-0210-4024-9081-9CB2CED4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8E7EF-BD7E-4D5A-8514-1D4BF58F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ADC1E-CD97-4DD2-A646-257F3B75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A3C8C-3BD0-4344-B8F2-38238C1E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EFA56-43C3-4BF1-944E-8F293D83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6FD8-B286-4476-B961-254656AA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9783D-F6F4-47D8-81C4-BC06AD19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8538B-3F69-4CEE-8F2D-7641236C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2BDB2-743D-4FE9-AA11-461FE4CB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E2C35-919A-4485-8AB4-92F2B9CA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3199C-150D-4673-B046-2D74BACE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FC7C4-3276-4476-AACD-3CBDFF41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0063A-1C22-4C13-A42B-BD9E8E3C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32783-8816-48C5-9583-7BE016CD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27EDF-462F-46B0-A3E8-E95B0DF0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06E94-C9C6-4204-AD05-E975A27E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2452-12E2-4579-871D-512DD969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C9AA8-FA49-4AFF-9C32-57BF4DE9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66D91-6AE6-4BA0-9FF0-02605DB3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4FE8B-0A35-48D9-852D-77D9391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4F02A-712E-4E47-BE39-13E9AE04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62537-1CDB-4F8F-A7C8-7BDD1386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54789-6A62-47C0-AC7C-7CE835C2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A7606-2628-419E-898B-776F8416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D1372-9A33-4C93-95A4-3BE5CBAC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63819-2B27-4ECD-834C-71E615C4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2BA91-85AE-4F35-AF72-302D20B4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0425-0557-4F75-857C-A5943DF8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4EE6C-4AEC-4235-A188-568DF1FA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D6CEE-8D94-4035-8CEA-D3D8FBD4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04C15-D996-4860-BAE5-C074FD68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8FBC1-30BB-4CF2-ABDA-4133851A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0D1FF-4429-43E5-B774-2484B90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3476F-BDDE-4C16-B595-70FBC074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2771D-17AB-4CBF-8497-8483DF99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9E977-4A9F-47E9-BEF3-A328D2FB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84F0B-7C71-4142-AAFF-FAEC8D98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EDE7C9-4784-4CFF-9C67-251DC4EB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B845-063C-4DD1-BF70-F8DECBFE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EAB0E-89D9-4F49-8B73-B0EF7F82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3C64B8-E195-48A9-A284-D905B0B0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27885-B75F-466B-96D1-2568EB3F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1A3AD-5DB9-472F-9265-1F989231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500AF-0C60-46B8-B8D4-6A1387C5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0680B9-5204-4FAC-BD71-9ACBC61C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64472-916D-4188-94F5-4BD40FE6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34EB4-A672-44A5-A580-7E09C6E9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BAC9E3-0C15-4B60-A96A-2BC59ACA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097FC-B19A-40F7-BACF-9E5F6000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1C6C-5359-444A-B9CF-A5FDB838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42705-A966-4659-B73F-995358EE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27D1-AA25-4A6E-9FBE-C1AEA48A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9C3-4867-4F8D-A0CD-79C69FB1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6383-4C74-4E2B-A6C3-707C8035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3594-C0B8-4BB7-A1B6-12A6973B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6980-A949-4A80-9CBE-42158E7F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27F6-DAEB-480C-9248-3E330C3A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7344-2A29-4A59-864A-FBEB17AB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509B6-6EBE-42C2-9C37-CAFAF32E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6B930-17BA-45E7-9CCF-1986F473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4EE9-CEFA-4BE8-BE85-430F7F4E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84B2-ADC4-4B5C-B64D-5C5561C1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DF008-32DF-48BF-9B08-6168D8E3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A10-4197-43B1-8370-DC20BE40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68E1-CF30-499D-B43B-DBD8513C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7B5E-F161-4EE3-A6BC-4DCF81B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ACAC-2A60-4B64-868C-15536440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65FE-0C67-4088-B5CF-57D9867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6A32-83B0-417C-BB1C-C6DA9980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6BD8-B06A-4656-83CA-6F1D94A1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E3EC8-8407-46A4-A4E2-6A6D5EBA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FF83C-548E-4144-93F7-BDB05923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836A-8DC9-4F8E-B9B2-7CAE81A9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2AE22-7886-4ECB-BFAF-DB1EC01C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204-B1C1-4EDD-AABD-0B8D1A0B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062C-FCFF-4D76-AB50-B88B9AD8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D5364-9ECA-431B-8395-2F172037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193A8-90B5-4E95-82CA-2DF6F71E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C61D2-D93B-4DBF-BD2C-2EA2DDA4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7D67C-AFF2-45B9-9BEC-B2E1DA1B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3AB6F-D823-457A-B006-CBA7A8B3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F6E7F-2F4B-4AC7-A333-30A47EF5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5321-9E49-4EA3-A847-DF04E057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BB6B8-9B7D-497F-BF94-C8BDEA65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58E0-4D03-4AFF-AD24-B366979B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FFA-F65D-4E9D-B879-FA809CD7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7981F-EADF-444D-A787-425C45FF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92558-F390-4698-B473-9468B932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AA396-8280-477B-AF52-A9796182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D18DC-4514-4B9E-948E-A39B2D26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7DFC4-444B-463F-AB8E-AA277001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5571D-7D4B-460E-BA95-CCA4E0EB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7605-BA58-4BF0-8E96-8D5677D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7F793-339E-4941-B486-BBD6CFAA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70FF6-DD3B-4E6D-A920-C2C59843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9BA74-C167-4104-86C7-3619936A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746-CECC-44BC-AD50-9708CE0A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93C19-7071-4AE8-97A4-5BFBCE4A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E9CF3-0DCF-41EF-A31D-D56E41B1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C5AEA-664E-4E2F-A21C-90B12C38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F23F2-667F-442D-B972-A04D35D3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42C2-3EF4-44BE-8E00-8F2E942E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B9C8D-3074-4418-BCA5-7E9DD9CD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DEE47-BC48-4B30-A383-90DFEF3A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83DFC-037E-4457-82D1-5A7DFD15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4B3B7-F830-47C2-8874-A2B22BB3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A2CBA-61A4-4BF2-BE70-B32728E2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6EB-B6D7-4FD2-A956-CD997A64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588FF-3A6E-4628-8481-B4DAFB1F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3A673-09A7-4B0A-AAF3-CB1A02B6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2F90A-3B4A-4A6D-B91B-658C631A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2C8B3-F4E3-4291-84EB-D5405586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F5728-5C0E-464F-A46A-C8C4F3F6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5E8DA-D7D8-4218-8BAE-8455972A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53C01-C087-4090-A598-B5BBB089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33A4C-AEE2-4136-8C9A-F8DEFE9C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AA3C2-1FDD-42C5-BF99-D14A1DEB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3BCCF-7A3C-48E0-A82F-5F605D74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1F5-1444-4B39-8609-5306828F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29512-CC6B-493A-845F-7D641A0C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2E911-7368-4308-BA0D-329F302F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5F614-53B3-456F-BD10-026F20E2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68BE8-570C-44C1-BE6A-3FD4F4DB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BCF5F-85BB-43B6-A294-08315DDE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49957-1D0E-4574-BB21-D9C49EBE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98D12-7230-4D69-AFD2-443C72E2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16085-27DC-4BC4-9427-788CA359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83AE9-8601-4300-A231-C91667EA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03066-FB39-4D80-B06E-5D11D047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9EB-643E-46DC-B829-FF0F2244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E7E87-9466-47DD-A125-D4636146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66A0C-379D-46FA-AE17-48671BD3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5A4FA-F58C-4816-8EDE-9E46D3DB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258B3-8997-4B6E-B800-0DF06F3B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D728E-3245-43D9-9A76-D825C979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E932A-59AF-49A5-AA52-0EAC673D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6238D-FC1C-4F8B-A84F-FA82D87D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1DB45-F523-448A-9824-16D24129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352E0-EF3B-430E-B2F9-15078B84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9F190-1653-491D-B0BE-309C8066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39FE-6F54-472D-9BA3-1BD1DBD913A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6923-8287-49A7-9423-AD912A3EF3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C1C9-FEB6-4D71-B04B-270F79EC79F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07A9-F04B-4C2B-89F7-C902CC6B84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3CD0-25F6-4E73-8C18-1439EDBD92F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FF67-C799-45C6-BB1A-546F6FD4A90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D686-602E-4ED9-9F82-2B89A03699D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8012-1C4C-4B5F-A12D-B0912C12111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A114-2515-45FE-8420-E853F53E40C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F399-49BD-487A-92F0-B878E61E7A4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D16A-6B89-47D0-8DC3-DB3E16D0C0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3C61-1F51-4D57-AA8B-99D909AC9D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6DCB-667F-428C-9987-4935D384DEF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B150-9273-4CBC-8981-B59AA9E5CDF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FF38-77C6-4A5C-AFA7-417E365142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image" Target="../media/image48.wmf"/><Relationship Id="rId1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р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5"/>
          <p:cNvSpPr/>
          <p:nvPr/>
        </p:nvSpPr>
        <p:spPr>
          <a:xfrm>
            <a:off x="1187280" y="5229360"/>
            <a:ext cx="65278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u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+ SO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-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+ 4 NH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→ [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u(NH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]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+ SO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bff"/>
                </a:solidFill>
                <a:latin typeface="Times New Roman"/>
                <a:ea typeface="Times New Roman"/>
              </a:rPr>
              <a:t>светло плав</a:t>
            </a:r>
            <a:r>
              <a:rPr b="1" i="1" lang="en-US" sz="2400" spc="-1" strike="noStrike">
                <a:solidFill>
                  <a:srgbClr val="339bff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339bff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en-US" sz="2000" spc="-1" strike="noStrike">
                <a:solidFill>
                  <a:srgbClr val="0000cd"/>
                </a:solidFill>
                <a:latin typeface="Times New Roman"/>
                <a:ea typeface="Times New Roman"/>
              </a:rPr>
              <a:t>тамно пл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" descr=""/>
          <p:cNvPicPr/>
          <p:nvPr/>
        </p:nvPicPr>
        <p:blipFill>
          <a:blip r:embed="rId1"/>
          <a:stretch/>
        </p:blipFill>
        <p:spPr>
          <a:xfrm>
            <a:off x="1187280" y="1981080"/>
            <a:ext cx="3168720" cy="30099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7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3024360" cy="301464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9"/>
          <p:cNvSpPr/>
          <p:nvPr/>
        </p:nvSpPr>
        <p:spPr>
          <a:xfrm>
            <a:off x="1214280" y="1984320"/>
            <a:ext cx="1150920" cy="47520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"/>
          <p:cNvSpPr/>
          <p:nvPr/>
        </p:nvSpPr>
        <p:spPr>
          <a:xfrm>
            <a:off x="4572000" y="1984320"/>
            <a:ext cx="1927080" cy="47520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4" descr=""/>
          <p:cNvPicPr/>
          <p:nvPr/>
        </p:nvPicPr>
        <p:blipFill>
          <a:blip r:embed="rId1"/>
          <a:stretch/>
        </p:blipFill>
        <p:spPr>
          <a:xfrm>
            <a:off x="6429240" y="2000160"/>
            <a:ext cx="1919520" cy="272124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6"/>
          <p:cNvSpPr/>
          <p:nvPr/>
        </p:nvSpPr>
        <p:spPr>
          <a:xfrm>
            <a:off x="214200" y="3068640"/>
            <a:ext cx="5857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 координационе хем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 Нобелова награда за хем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7"/>
          <p:cNvSpPr/>
          <p:nvPr/>
        </p:nvSpPr>
        <p:spPr>
          <a:xfrm>
            <a:off x="1476360" y="1197000"/>
            <a:ext cx="58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комплексних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6215040" y="485784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fred Werner (1866-191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9"/>
          <p:cNvSpPr/>
          <p:nvPr/>
        </p:nvSpPr>
        <p:spPr>
          <a:xfrm>
            <a:off x="214200" y="2214720"/>
            <a:ext cx="864252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 између комплексног јона и јона спољашње сфере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 између централног јона и лиганад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ординативно-ковалентна  (ковалентн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о-акцепторска в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2286000" y="1285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мијске везе у комплекс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2786040" y="5000760"/>
            <a:ext cx="309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4"/>
          <p:cNvSpPr/>
          <p:nvPr/>
        </p:nvSpPr>
        <p:spPr>
          <a:xfrm>
            <a:off x="1428840" y="1143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комплекса према наелектрис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731880" y="2011320"/>
            <a:ext cx="410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лексни катјон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0"/>
          <p:cNvSpPr/>
          <p:nvPr/>
        </p:nvSpPr>
        <p:spPr>
          <a:xfrm>
            <a:off x="731880" y="4243320"/>
            <a:ext cx="410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лексни анјон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Object 9"/>
          <p:cNvGraphicFramePr/>
          <p:nvPr/>
        </p:nvGraphicFramePr>
        <p:xfrm>
          <a:off x="755640" y="2637000"/>
          <a:ext cx="629748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6297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10"/>
          <p:cNvGraphicFramePr/>
          <p:nvPr/>
        </p:nvGraphicFramePr>
        <p:xfrm>
          <a:off x="770040" y="3284640"/>
          <a:ext cx="646596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3284640"/>
                    <a:ext cx="6465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11"/>
          <p:cNvGraphicFramePr/>
          <p:nvPr/>
        </p:nvGraphicFramePr>
        <p:xfrm>
          <a:off x="785880" y="4857840"/>
          <a:ext cx="597528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4857840"/>
                    <a:ext cx="5975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12"/>
          <p:cNvGraphicFramePr/>
          <p:nvPr/>
        </p:nvGraphicFramePr>
        <p:xfrm>
          <a:off x="785880" y="5643720"/>
          <a:ext cx="5256000" cy="39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6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80" y="5643720"/>
                    <a:ext cx="52560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4"/>
          <p:cNvSpPr/>
          <p:nvPr/>
        </p:nvSpPr>
        <p:spPr>
          <a:xfrm>
            <a:off x="731880" y="1359000"/>
            <a:ext cx="518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лексни катјон и анјон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731880" y="3878280"/>
            <a:ext cx="410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и комплекс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Object 7"/>
          <p:cNvGraphicFramePr/>
          <p:nvPr/>
        </p:nvGraphicFramePr>
        <p:xfrm>
          <a:off x="766800" y="2133720"/>
          <a:ext cx="7118280" cy="35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2133720"/>
                    <a:ext cx="71182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8"/>
          <p:cNvGraphicFramePr/>
          <p:nvPr/>
        </p:nvGraphicFramePr>
        <p:xfrm>
          <a:off x="417600" y="2928960"/>
          <a:ext cx="87264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600" y="2928960"/>
                    <a:ext cx="8726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9"/>
          <p:cNvGraphicFramePr/>
          <p:nvPr/>
        </p:nvGraphicFramePr>
        <p:xfrm>
          <a:off x="785880" y="4929120"/>
          <a:ext cx="3803760" cy="98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4929120"/>
                    <a:ext cx="380376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TextBox 9"/>
          <p:cNvSpPr/>
          <p:nvPr/>
        </p:nvSpPr>
        <p:spPr>
          <a:xfrm>
            <a:off x="3564000" y="486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исос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0"/>
          <p:cNvSpPr/>
          <p:nvPr/>
        </p:nvSpPr>
        <p:spPr>
          <a:xfrm>
            <a:off x="4500720" y="5516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исос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1643040" y="121428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социјација комплексних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Object 5"/>
          <p:cNvGraphicFramePr/>
          <p:nvPr/>
        </p:nvGraphicFramePr>
        <p:xfrm>
          <a:off x="642960" y="2143080"/>
          <a:ext cx="7632720" cy="3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143080"/>
                    <a:ext cx="76327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6"/>
          <p:cNvGraphicFramePr/>
          <p:nvPr/>
        </p:nvGraphicFramePr>
        <p:xfrm>
          <a:off x="642960" y="2928960"/>
          <a:ext cx="8209080" cy="35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2928960"/>
                    <a:ext cx="8209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2" name="Text Box 8"/>
          <p:cNvSpPr/>
          <p:nvPr/>
        </p:nvSpPr>
        <p:spPr>
          <a:xfrm>
            <a:off x="500040" y="4286160"/>
            <a:ext cx="607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оцијација двогубих (двојних) со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Object 7"/>
          <p:cNvGraphicFramePr/>
          <p:nvPr/>
        </p:nvGraphicFramePr>
        <p:xfrm>
          <a:off x="714240" y="5286240"/>
          <a:ext cx="655956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5286240"/>
                    <a:ext cx="6559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4"/>
          <p:cNvSpPr/>
          <p:nvPr/>
        </p:nvSpPr>
        <p:spPr>
          <a:xfrm>
            <a:off x="1258920" y="112536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менклатура комплексних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5"/>
          <p:cNvSpPr/>
          <p:nvPr/>
        </p:nvSpPr>
        <p:spPr>
          <a:xfrm>
            <a:off x="179280" y="1700280"/>
            <a:ext cx="8675640" cy="4590000"/>
          </a:xfrm>
          <a:prstGeom prst="rect">
            <a:avLst/>
          </a:prstGeom>
          <a:noFill/>
          <a:ln w="19080">
            <a:solidFill>
              <a:srgbClr val="115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 метални јон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д анјонског комплекса- од латинског имена метала одбаци се наставак: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UM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IUM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да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AT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mb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M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plumb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M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fer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balt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M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kobalt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имена централног металног јона пише се оксидационо стање римским броје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mb</a:t>
            </a:r>
            <a:r>
              <a:rPr b="0" lang="sr-Latn-CS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t</a:t>
            </a:r>
            <a:r>
              <a:rPr b="0" lang="sr-Latn-C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I)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fer</a:t>
            </a:r>
            <a:r>
              <a:rPr b="0" lang="sr-Latn-CS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t</a:t>
            </a:r>
            <a:r>
              <a:rPr b="0" lang="sr-Latn-C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I)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kobalt</a:t>
            </a:r>
            <a:r>
              <a:rPr b="0" lang="sr-Latn-CS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t</a:t>
            </a:r>
            <a:r>
              <a:rPr b="0" lang="sr-Latn-C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4"/>
          <p:cNvSpPr/>
          <p:nvPr/>
        </p:nvSpPr>
        <p:spPr>
          <a:xfrm>
            <a:off x="250920" y="1197000"/>
            <a:ext cx="8569080" cy="1739880"/>
          </a:xfrm>
          <a:prstGeom prst="rect">
            <a:avLst/>
          </a:prstGeom>
          <a:noFill/>
          <a:ln w="19080">
            <a:solidFill>
              <a:srgbClr val="115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д катјонског и неутралног комплекс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име метала пише се оксидационо стање римским броје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žđe</a:t>
            </a:r>
            <a:r>
              <a:rPr b="0" lang="sr-Latn-C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I)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kobalt</a:t>
            </a:r>
            <a:r>
              <a:rPr b="0" lang="sr-Latn-C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II)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nikal</a:t>
            </a:r>
            <a:r>
              <a:rPr b="0" lang="sr-Latn-C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I)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5"/>
          <p:cNvSpPr/>
          <p:nvPr/>
        </p:nvSpPr>
        <p:spPr>
          <a:xfrm>
            <a:off x="250920" y="3429000"/>
            <a:ext cx="8569080" cy="3172680"/>
          </a:xfrm>
          <a:prstGeom prst="rect">
            <a:avLst/>
          </a:prstGeom>
          <a:noFill/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) Испред имена метала ставља се име лиганда и број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онодентатних лиганада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nta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ksa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pta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о је лиганд хелатни – број лиганада означава се са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s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s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kis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тни лиганди пишу се у заград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4"/>
          <p:cNvSpPr/>
          <p:nvPr/>
        </p:nvSpPr>
        <p:spPr>
          <a:xfrm>
            <a:off x="324000" y="1241280"/>
            <a:ext cx="8496000" cy="1312920"/>
          </a:xfrm>
          <a:prstGeom prst="rect">
            <a:avLst/>
          </a:prstGeom>
          <a:noFill/>
          <a:ln w="19080">
            <a:solidFill>
              <a:srgbClr val="115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У формули се прво пише  (поштујући абецедно правило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латни лиганд – монодентатни – анјонски – неутрални – катјонски  лиган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324000" y="2820960"/>
            <a:ext cx="8424720" cy="1389240"/>
          </a:xfrm>
          <a:prstGeom prst="rect">
            <a:avLst/>
          </a:prstGeom>
          <a:noFill/>
          <a:ln w="19080">
            <a:solidFill>
              <a:srgbClr val="115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Анјонски лиганд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ид  + 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хлорид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  +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О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карбонат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324000" y="4417920"/>
            <a:ext cx="8424720" cy="2408760"/>
          </a:xfrm>
          <a:prstGeom prst="rect">
            <a:avLst/>
          </a:prstGeom>
          <a:noFill/>
          <a:ln w="19080">
            <a:solidFill>
              <a:srgbClr val="115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и лиганд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=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 =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и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зи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Box 1"/>
          <p:cNvSpPr/>
          <p:nvPr/>
        </p:nvSpPr>
        <p:spPr>
          <a:xfrm>
            <a:off x="3000240" y="1071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латни ефе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3" name="Object 2"/>
          <p:cNvGraphicFramePr/>
          <p:nvPr/>
        </p:nvGraphicFramePr>
        <p:xfrm>
          <a:off x="684360" y="1738440"/>
          <a:ext cx="2808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38440"/>
                    <a:ext cx="2808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4"/>
          <p:cNvGraphicFramePr/>
          <p:nvPr/>
        </p:nvGraphicFramePr>
        <p:xfrm>
          <a:off x="684360" y="2836800"/>
          <a:ext cx="347328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836800"/>
                    <a:ext cx="34732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TextBox 6"/>
          <p:cNvSpPr/>
          <p:nvPr/>
        </p:nvSpPr>
        <p:spPr>
          <a:xfrm>
            <a:off x="5029200" y="2103480"/>
            <a:ext cx="27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мета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>
            <a:off x="5029200" y="3154320"/>
            <a:ext cx="27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комплек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8"/>
          <p:cNvSpPr/>
          <p:nvPr/>
        </p:nvSpPr>
        <p:spPr>
          <a:xfrm>
            <a:off x="5029200" y="4297320"/>
            <a:ext cx="27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комплек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Object 9"/>
          <p:cNvGraphicFramePr/>
          <p:nvPr/>
        </p:nvGraphicFramePr>
        <p:xfrm>
          <a:off x="663480" y="4202280"/>
          <a:ext cx="4100760" cy="105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480" y="4202280"/>
                    <a:ext cx="410076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TextBox 10"/>
          <p:cNvSpPr/>
          <p:nvPr/>
        </p:nvSpPr>
        <p:spPr>
          <a:xfrm>
            <a:off x="133200" y="5334120"/>
            <a:ext cx="887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комплекса је већа, што је број прстенова по молекулу лиганда већ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хелатних комплекса у односу на комплексе са монодентатним лигандима назива с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ефека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Straight Arrow Connector 12"/>
          <p:cNvCxnSpPr/>
          <p:nvPr/>
        </p:nvCxnSpPr>
        <p:spPr>
          <a:xfrm>
            <a:off x="8100720" y="1782360"/>
            <a:ext cx="1080" cy="31410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4" name="TextBox 13"/>
          <p:cNvSpPr/>
          <p:nvPr/>
        </p:nvSpPr>
        <p:spPr>
          <a:xfrm>
            <a:off x="8338320" y="1876320"/>
            <a:ext cx="29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6"/>
          <p:cNvSpPr/>
          <p:nvPr/>
        </p:nvSpPr>
        <p:spPr>
          <a:xfrm>
            <a:off x="2232000" y="3240000"/>
            <a:ext cx="424800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7"/>
          <p:cNvSpPr/>
          <p:nvPr/>
        </p:nvSpPr>
        <p:spPr>
          <a:xfrm flipV="1">
            <a:off x="3394080" y="3960360"/>
            <a:ext cx="133200" cy="925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8"/>
          <p:cNvSpPr/>
          <p:nvPr/>
        </p:nvSpPr>
        <p:spPr>
          <a:xfrm flipH="1" flipV="1">
            <a:off x="4751280" y="4032000"/>
            <a:ext cx="21600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1536840" y="4879800"/>
            <a:ext cx="2280960" cy="764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 јон мет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"/>
          <p:cNvSpPr/>
          <p:nvPr/>
        </p:nvSpPr>
        <p:spPr>
          <a:xfrm>
            <a:off x="4214880" y="4879800"/>
            <a:ext cx="1571400" cy="4291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анд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"/>
          <p:cNvSpPr/>
          <p:nvPr/>
        </p:nvSpPr>
        <p:spPr>
          <a:xfrm flipH="1" flipV="1">
            <a:off x="5472000" y="4105080"/>
            <a:ext cx="851040" cy="780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3"/>
          <p:cNvSpPr/>
          <p:nvPr/>
        </p:nvSpPr>
        <p:spPr>
          <a:xfrm>
            <a:off x="6108840" y="4879800"/>
            <a:ext cx="2346120" cy="764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и бро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7"/>
          <p:cNvSpPr/>
          <p:nvPr/>
        </p:nvSpPr>
        <p:spPr>
          <a:xfrm>
            <a:off x="1571760" y="2000160"/>
            <a:ext cx="1714320" cy="1099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8"/>
          <p:cNvSpPr/>
          <p:nvPr/>
        </p:nvSpPr>
        <p:spPr>
          <a:xfrm>
            <a:off x="3608280" y="2000160"/>
            <a:ext cx="1676520" cy="1099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а сфера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1" descr=""/>
          <p:cNvPicPr/>
          <p:nvPr/>
        </p:nvPicPr>
        <p:blipFill>
          <a:blip r:embed="rId1"/>
          <a:stretch/>
        </p:blipFill>
        <p:spPr>
          <a:xfrm>
            <a:off x="3035160" y="3006720"/>
            <a:ext cx="2592360" cy="4478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" descr=""/>
          <p:cNvPicPr/>
          <p:nvPr/>
        </p:nvPicPr>
        <p:blipFill>
          <a:blip r:embed="rId2"/>
          <a:stretch/>
        </p:blipFill>
        <p:spPr>
          <a:xfrm>
            <a:off x="2179800" y="3171960"/>
            <a:ext cx="823680" cy="1429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13"/>
          <p:cNvSpPr/>
          <p:nvPr/>
        </p:nvSpPr>
        <p:spPr>
          <a:xfrm>
            <a:off x="1010520" y="1000080"/>
            <a:ext cx="71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лексна једињења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сложена једиње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1737000" y="1071720"/>
            <a:ext cx="57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а стабилности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9"/>
          <p:cNvSpPr/>
          <p:nvPr/>
        </p:nvSpPr>
        <p:spPr>
          <a:xfrm>
            <a:off x="1403280" y="2997360"/>
            <a:ext cx="95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1"/>
          <a:stretch/>
        </p:blipFill>
        <p:spPr>
          <a:xfrm>
            <a:off x="4206960" y="1557360"/>
            <a:ext cx="1655640" cy="93024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1" descr=""/>
          <p:cNvPicPr/>
          <p:nvPr/>
        </p:nvPicPr>
        <p:blipFill>
          <a:blip r:embed="rId2"/>
          <a:stretch/>
        </p:blipFill>
        <p:spPr>
          <a:xfrm>
            <a:off x="4206960" y="2651040"/>
            <a:ext cx="1765080" cy="9003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12" descr=""/>
          <p:cNvPicPr/>
          <p:nvPr/>
        </p:nvPicPr>
        <p:blipFill>
          <a:blip r:embed="rId3"/>
          <a:stretch/>
        </p:blipFill>
        <p:spPr>
          <a:xfrm>
            <a:off x="4206960" y="4076640"/>
            <a:ext cx="2158920" cy="9540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4" descr=""/>
          <p:cNvPicPr/>
          <p:nvPr/>
        </p:nvPicPr>
        <p:blipFill>
          <a:blip r:embed="rId4"/>
          <a:stretch/>
        </p:blipFill>
        <p:spPr>
          <a:xfrm>
            <a:off x="822240" y="5300640"/>
            <a:ext cx="1781280" cy="566640"/>
          </a:xfrm>
          <a:prstGeom prst="rect">
            <a:avLst/>
          </a:prstGeom>
          <a:ln w="0">
            <a:noFill/>
          </a:ln>
        </p:spPr>
      </p:pic>
      <p:sp>
        <p:nvSpPr>
          <p:cNvPr id="881" name="TextBox 15"/>
          <p:cNvSpPr/>
          <p:nvPr/>
        </p:nvSpPr>
        <p:spPr>
          <a:xfrm>
            <a:off x="3059280" y="5300640"/>
            <a:ext cx="561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рцијалне (сукцесивне) константе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табилности  комплекс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17" descr=""/>
          <p:cNvPicPr/>
          <p:nvPr/>
        </p:nvPicPr>
        <p:blipFill>
          <a:blip r:embed="rId5"/>
          <a:stretch/>
        </p:blipFill>
        <p:spPr>
          <a:xfrm>
            <a:off x="822240" y="4221000"/>
            <a:ext cx="2651040" cy="52236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8" descr=""/>
          <p:cNvPicPr/>
          <p:nvPr/>
        </p:nvPicPr>
        <p:blipFill>
          <a:blip r:embed="rId6"/>
          <a:stretch/>
        </p:blipFill>
        <p:spPr>
          <a:xfrm>
            <a:off x="822240" y="2743200"/>
            <a:ext cx="2552760" cy="5475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19" descr=""/>
          <p:cNvPicPr/>
          <p:nvPr/>
        </p:nvPicPr>
        <p:blipFill>
          <a:blip r:embed="rId7"/>
          <a:stretch/>
        </p:blipFill>
        <p:spPr>
          <a:xfrm>
            <a:off x="822240" y="1744560"/>
            <a:ext cx="2293920" cy="53208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28" descr=""/>
          <p:cNvPicPr/>
          <p:nvPr/>
        </p:nvPicPr>
        <p:blipFill>
          <a:blip r:embed="rId8"/>
          <a:stretch/>
        </p:blipFill>
        <p:spPr>
          <a:xfrm>
            <a:off x="6732720" y="2743200"/>
            <a:ext cx="1942920" cy="425520"/>
          </a:xfrm>
          <a:prstGeom prst="rect">
            <a:avLst/>
          </a:prstGeom>
          <a:ln w="0">
            <a:noFill/>
          </a:ln>
        </p:spPr>
      </p:pic>
      <p:sp>
        <p:nvSpPr>
          <p:cNvPr id="886" name="TextBox 29"/>
          <p:cNvSpPr/>
          <p:nvPr/>
        </p:nvSpPr>
        <p:spPr>
          <a:xfrm>
            <a:off x="6581520" y="314316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тоје и изузец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1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084480" cy="66852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22" descr=""/>
          <p:cNvPicPr/>
          <p:nvPr/>
        </p:nvPicPr>
        <p:blipFill>
          <a:blip r:embed="rId2"/>
          <a:stretch/>
        </p:blipFill>
        <p:spPr>
          <a:xfrm>
            <a:off x="4572000" y="1428840"/>
            <a:ext cx="2290680" cy="120168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23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1070280" cy="576000"/>
          </a:xfrm>
          <a:prstGeom prst="rect">
            <a:avLst/>
          </a:prstGeom>
          <a:ln w="0">
            <a:noFill/>
          </a:ln>
        </p:spPr>
      </p:pic>
      <p:sp>
        <p:nvSpPr>
          <p:cNvPr id="890" name="Rectangle 26"/>
          <p:cNvSpPr/>
          <p:nvPr/>
        </p:nvSpPr>
        <p:spPr>
          <a:xfrm>
            <a:off x="2700360" y="3046320"/>
            <a:ext cx="5616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упна (општа, кумулативна)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онстанта стабилности (грађења)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омплекс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30" descr=""/>
          <p:cNvPicPr/>
          <p:nvPr/>
        </p:nvPicPr>
        <p:blipFill>
          <a:blip r:embed="rId4"/>
          <a:stretch/>
        </p:blipFill>
        <p:spPr>
          <a:xfrm>
            <a:off x="2571840" y="4714920"/>
            <a:ext cx="3644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"/>
          <p:cNvSpPr/>
          <p:nvPr/>
        </p:nvSpPr>
        <p:spPr>
          <a:xfrm>
            <a:off x="1500120" y="1071720"/>
            <a:ext cx="61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a нестабилности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2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2425680" cy="5601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3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1800360" cy="98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5" name="Object 4"/>
          <p:cNvGraphicFramePr/>
          <p:nvPr/>
        </p:nvGraphicFramePr>
        <p:xfrm>
          <a:off x="914400" y="2862360"/>
          <a:ext cx="662472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862360"/>
                    <a:ext cx="66247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7" name="Object 5"/>
          <p:cNvGraphicFramePr/>
          <p:nvPr/>
        </p:nvGraphicFramePr>
        <p:xfrm>
          <a:off x="914400" y="3645000"/>
          <a:ext cx="684036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645000"/>
                    <a:ext cx="68403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Object 6"/>
          <p:cNvGraphicFramePr/>
          <p:nvPr/>
        </p:nvGraphicFramePr>
        <p:xfrm>
          <a:off x="914400" y="4437000"/>
          <a:ext cx="703260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437000"/>
                    <a:ext cx="703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Object 7"/>
          <p:cNvGraphicFramePr/>
          <p:nvPr/>
        </p:nvGraphicFramePr>
        <p:xfrm>
          <a:off x="914400" y="5229360"/>
          <a:ext cx="6610320" cy="52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5229360"/>
                    <a:ext cx="661032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3" name="Picture 8" descr=""/>
          <p:cNvPicPr/>
          <p:nvPr/>
        </p:nvPicPr>
        <p:blipFill>
          <a:blip r:embed="rId11"/>
          <a:stretch/>
        </p:blipFill>
        <p:spPr>
          <a:xfrm>
            <a:off x="2286000" y="6126120"/>
            <a:ext cx="33130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10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2525760" cy="503280"/>
          </a:xfrm>
          <a:prstGeom prst="rect">
            <a:avLst/>
          </a:prstGeom>
          <a:ln w="0">
            <a:noFill/>
          </a:ln>
        </p:spPr>
      </p:pic>
      <p:sp>
        <p:nvSpPr>
          <p:cNvPr id="905" name="Rectangle 11"/>
          <p:cNvSpPr/>
          <p:nvPr/>
        </p:nvSpPr>
        <p:spPr>
          <a:xfrm>
            <a:off x="3174840" y="1268280"/>
            <a:ext cx="58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е (сукцесивне) констант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ости комплек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12" descr=""/>
          <p:cNvPicPr/>
          <p:nvPr/>
        </p:nvPicPr>
        <p:blipFill>
          <a:blip r:embed="rId2"/>
          <a:stretch/>
        </p:blipFill>
        <p:spPr>
          <a:xfrm>
            <a:off x="2484360" y="2349360"/>
            <a:ext cx="568440" cy="595440"/>
          </a:xfrm>
          <a:prstGeom prst="rect">
            <a:avLst/>
          </a:prstGeom>
          <a:ln w="0">
            <a:noFill/>
          </a:ln>
        </p:spPr>
      </p:pic>
      <p:sp>
        <p:nvSpPr>
          <p:cNvPr id="907" name="Rectangle 13"/>
          <p:cNvSpPr/>
          <p:nvPr/>
        </p:nvSpPr>
        <p:spPr>
          <a:xfrm>
            <a:off x="3203640" y="2421000"/>
            <a:ext cx="508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а констан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оцијације) комплек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Picture 18" descr=""/>
          <p:cNvPicPr/>
          <p:nvPr/>
        </p:nvPicPr>
        <p:blipFill>
          <a:blip r:embed="rId3"/>
          <a:stretch/>
        </p:blipFill>
        <p:spPr>
          <a:xfrm>
            <a:off x="3492360" y="5157720"/>
            <a:ext cx="1584360" cy="1298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09" name="TextBox 7"/>
          <p:cNvSpPr/>
          <p:nvPr/>
        </p:nvSpPr>
        <p:spPr>
          <a:xfrm>
            <a:off x="395280" y="3645000"/>
            <a:ext cx="360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а стабилности комплек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9"/>
          <p:cNvSpPr/>
          <p:nvPr/>
        </p:nvSpPr>
        <p:spPr>
          <a:xfrm>
            <a:off x="4572000" y="3933720"/>
            <a:ext cx="388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а нестабилности комплек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10"/>
          <p:cNvSpPr/>
          <p:nvPr/>
        </p:nvSpPr>
        <p:spPr>
          <a:xfrm>
            <a:off x="3995640" y="36450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traight Connector 12"/>
          <p:cNvSpPr/>
          <p:nvPr/>
        </p:nvSpPr>
        <p:spPr>
          <a:xfrm>
            <a:off x="4572000" y="3933720"/>
            <a:ext cx="381636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5"/>
          <p:cNvSpPr/>
          <p:nvPr/>
        </p:nvSpPr>
        <p:spPr>
          <a:xfrm>
            <a:off x="6227640" y="3429000"/>
            <a:ext cx="50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Box 1"/>
          <p:cNvSpPr/>
          <p:nvPr/>
        </p:nvSpPr>
        <p:spPr>
          <a:xfrm>
            <a:off x="232200" y="785880"/>
            <a:ext cx="8514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ка је константа стабилности комплекса ако је укупн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и (дисоцијације) комплекса 2,1·10</a:t>
            </a:r>
            <a:r>
              <a:rPr b="0" lang="ru-RU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3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3" descr=""/>
          <p:cNvPicPr/>
          <p:nvPr/>
        </p:nvPicPr>
        <p:blipFill>
          <a:blip r:embed="rId1"/>
          <a:stretch/>
        </p:blipFill>
        <p:spPr>
          <a:xfrm>
            <a:off x="639720" y="2071800"/>
            <a:ext cx="5335560" cy="1446120"/>
          </a:xfrm>
          <a:prstGeom prst="rect">
            <a:avLst/>
          </a:prstGeom>
          <a:ln w="0">
            <a:noFill/>
          </a:ln>
        </p:spPr>
      </p:pic>
      <p:sp>
        <p:nvSpPr>
          <p:cNvPr id="916" name="Rectangle 4"/>
          <p:cNvSpPr/>
          <p:nvPr/>
        </p:nvSpPr>
        <p:spPr>
          <a:xfrm>
            <a:off x="250560" y="3549600"/>
            <a:ext cx="5345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комплексни јон је стабилнији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9" descr=""/>
          <p:cNvPicPr/>
          <p:nvPr/>
        </p:nvPicPr>
        <p:blipFill>
          <a:blip r:embed="rId2"/>
          <a:stretch/>
        </p:blipFill>
        <p:spPr>
          <a:xfrm>
            <a:off x="639720" y="4000680"/>
            <a:ext cx="4608720" cy="5252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0" descr=""/>
          <p:cNvPicPr/>
          <p:nvPr/>
        </p:nvPicPr>
        <p:blipFill>
          <a:blip r:embed="rId3"/>
          <a:stretch/>
        </p:blipFill>
        <p:spPr>
          <a:xfrm>
            <a:off x="639720" y="4500720"/>
            <a:ext cx="3957840" cy="119196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2"/>
          <p:cNvSpPr/>
          <p:nvPr/>
        </p:nvSpPr>
        <p:spPr>
          <a:xfrm>
            <a:off x="852480" y="5767560"/>
            <a:ext cx="69562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вредност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t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је стабилниј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вредност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је мање стабила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rrow: Right 13"/>
          <p:cNvSpPr/>
          <p:nvPr/>
        </p:nvSpPr>
        <p:spPr>
          <a:xfrm>
            <a:off x="3276720" y="6021360"/>
            <a:ext cx="718920" cy="44640"/>
          </a:xfrm>
          <a:prstGeom prst="rightArrow">
            <a:avLst>
              <a:gd name="adj1" fmla="val 50000"/>
              <a:gd name="adj2" fmla="val 498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rrow: Right 14"/>
          <p:cNvSpPr/>
          <p:nvPr/>
        </p:nvSpPr>
        <p:spPr>
          <a:xfrm>
            <a:off x="3276720" y="6453360"/>
            <a:ext cx="718920" cy="45720"/>
          </a:xfrm>
          <a:prstGeom prst="rightArrow">
            <a:avLst>
              <a:gd name="adj1" fmla="val 50000"/>
              <a:gd name="adj2" fmla="val 5030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Box 1"/>
          <p:cNvSpPr/>
          <p:nvPr/>
        </p:nvSpPr>
        <p:spPr>
          <a:xfrm>
            <a:off x="611280" y="1079640"/>
            <a:ext cx="83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латни комплекси – метал/EDTA комплек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2"/>
          <p:cNvSpPr/>
          <p:nvPr/>
        </p:nvSpPr>
        <p:spPr>
          <a:xfrm>
            <a:off x="182520" y="1785960"/>
            <a:ext cx="87138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ка примена хелатних комплекса у аналитичкој хемији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ометријска титрација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познатија група хелатних лиганада су комплексони –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аминосирћетне киселине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чешће коришћен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тилендиаминтетрасирћетна  </a:t>
            </a:r>
            <a:br>
              <a:rPr sz="2500"/>
            </a:b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киселин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DTA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лексон I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6"/>
          <p:cNvSpPr/>
          <p:nvPr/>
        </p:nvSpPr>
        <p:spPr>
          <a:xfrm>
            <a:off x="571680" y="6215040"/>
            <a:ext cx="764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ест координативних места (хексадентатни лиганд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5" name="Object 7"/>
          <p:cNvGraphicFramePr/>
          <p:nvPr/>
        </p:nvGraphicFramePr>
        <p:xfrm>
          <a:off x="1428840" y="4572000"/>
          <a:ext cx="5070240" cy="16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4572000"/>
                    <a:ext cx="5070240" cy="16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1"/>
          <p:cNvSpPr/>
          <p:nvPr/>
        </p:nvSpPr>
        <p:spPr>
          <a:xfrm>
            <a:off x="642960" y="1285920"/>
            <a:ext cx="648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рапротонска киселина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8" name="Object 1"/>
          <p:cNvGraphicFramePr/>
          <p:nvPr/>
        </p:nvGraphicFramePr>
        <p:xfrm>
          <a:off x="639720" y="2063880"/>
          <a:ext cx="476892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063880"/>
                    <a:ext cx="47689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Rectangle 3"/>
          <p:cNvSpPr/>
          <p:nvPr/>
        </p:nvSpPr>
        <p:spPr>
          <a:xfrm>
            <a:off x="5953320" y="220500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1 = 2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Object 2"/>
          <p:cNvGraphicFramePr/>
          <p:nvPr/>
        </p:nvGraphicFramePr>
        <p:xfrm>
          <a:off x="639720" y="3139920"/>
          <a:ext cx="476892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720" y="3139920"/>
                    <a:ext cx="47689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Rectangle 5"/>
          <p:cNvSpPr/>
          <p:nvPr/>
        </p:nvSpPr>
        <p:spPr>
          <a:xfrm>
            <a:off x="5961240" y="3265560"/>
            <a:ext cx="171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Object 3"/>
          <p:cNvGraphicFramePr/>
          <p:nvPr/>
        </p:nvGraphicFramePr>
        <p:xfrm>
          <a:off x="639720" y="4140360"/>
          <a:ext cx="4759200" cy="80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4140360"/>
                    <a:ext cx="4759200" cy="80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4"/>
          <p:cNvGraphicFramePr/>
          <p:nvPr/>
        </p:nvGraphicFramePr>
        <p:xfrm>
          <a:off x="639720" y="5157720"/>
          <a:ext cx="477216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9720" y="5157720"/>
                    <a:ext cx="4772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Rectangle 8"/>
          <p:cNvSpPr/>
          <p:nvPr/>
        </p:nvSpPr>
        <p:spPr>
          <a:xfrm>
            <a:off x="5961240" y="4221000"/>
            <a:ext cx="171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9"/>
          <p:cNvSpPr/>
          <p:nvPr/>
        </p:nvSpPr>
        <p:spPr>
          <a:xfrm>
            <a:off x="5961960" y="5229360"/>
            <a:ext cx="1896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,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Box 1"/>
          <p:cNvSpPr/>
          <p:nvPr/>
        </p:nvSpPr>
        <p:spPr>
          <a:xfrm>
            <a:off x="182520" y="1285920"/>
            <a:ext cx="874872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pH ≈ 2,00 најприсутнији облик у раствору је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pH = 2,00 – 2,70  најприсутнији облик је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pH = 2,70 – 6,20  најприсутнији облик је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pH = 6,20 – 10,30  најприсутнији облик је H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pH &gt; 10,30  најприсутнији облик је 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-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2" descr="C:\Users\Maca\Desktop\skenirano\edta.jpeg"/>
          <p:cNvPicPr/>
          <p:nvPr/>
        </p:nvPicPr>
        <p:blipFill>
          <a:blip r:embed="rId1"/>
          <a:stretch/>
        </p:blipFill>
        <p:spPr>
          <a:xfrm>
            <a:off x="1357200" y="3929040"/>
            <a:ext cx="5184720" cy="2465280"/>
          </a:xfrm>
          <a:prstGeom prst="rect">
            <a:avLst/>
          </a:prstGeom>
          <a:ln w="0">
            <a:noFill/>
          </a:ln>
        </p:spPr>
      </p:pic>
      <p:sp>
        <p:nvSpPr>
          <p:cNvPr id="942" name="TextBox 3"/>
          <p:cNvSpPr/>
          <p:nvPr/>
        </p:nvSpPr>
        <p:spPr>
          <a:xfrm>
            <a:off x="1476360" y="3789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4"/>
          <p:cNvSpPr/>
          <p:nvPr/>
        </p:nvSpPr>
        <p:spPr>
          <a:xfrm>
            <a:off x="6084720" y="5950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TextBox 1"/>
          <p:cNvSpPr/>
          <p:nvPr/>
        </p:nvSpPr>
        <p:spPr>
          <a:xfrm>
            <a:off x="-36360" y="1125360"/>
            <a:ext cx="921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слабе растворљивости EDTA за аналитичка одређивања се начешће користи динатрујимова со (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лексон II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2"/>
          <p:cNvSpPr/>
          <p:nvPr/>
        </p:nvSpPr>
        <p:spPr>
          <a:xfrm>
            <a:off x="4067280" y="2414520"/>
            <a:ext cx="446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комплекси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DTA са скоро свим катјонима метала су растворни у води и веома стабилни.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DTA представља значајан реагенс код комплексометријских титра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3"/>
          <p:cNvSpPr/>
          <p:nvPr/>
        </p:nvSpPr>
        <p:spPr>
          <a:xfrm>
            <a:off x="250920" y="5805360"/>
            <a:ext cx="871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етала, без обзира на наелектрисање, увек реагује с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DTA 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ском одно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1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Object 2"/>
          <p:cNvGraphicFramePr/>
          <p:nvPr/>
        </p:nvGraphicFramePr>
        <p:xfrm>
          <a:off x="1116000" y="2133720"/>
          <a:ext cx="208764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133720"/>
                    <a:ext cx="208764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9" name="Rectangle 5"/>
          <p:cNvSpPr/>
          <p:nvPr/>
        </p:nvSpPr>
        <p:spPr>
          <a:xfrm>
            <a:off x="4434480" y="5072040"/>
            <a:ext cx="3208680" cy="527400"/>
          </a:xfrm>
          <a:prstGeom prst="rect">
            <a:avLst/>
          </a:prstGeom>
          <a:noFill/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 : Na</a:t>
            </a:r>
            <a:r>
              <a:rPr b="1" lang="en-US" sz="25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EDTA = 1 : 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Box 1"/>
          <p:cNvSpPr/>
          <p:nvPr/>
        </p:nvSpPr>
        <p:spPr>
          <a:xfrm>
            <a:off x="324000" y="10350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споредних реакција на равнотеже грађења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2"/>
          <p:cNvSpPr/>
          <p:nvPr/>
        </p:nvSpPr>
        <p:spPr>
          <a:xfrm>
            <a:off x="108000" y="2060640"/>
            <a:ext cx="87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других супстанци у раствору, које могу реаговати са јоном метала или лигандом, утицаће на смањење њихове концентрације – помераће се равнотежна реакција дисоцијације и тиме мењати стабилност компле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3"/>
          <p:cNvSpPr/>
          <p:nvPr/>
        </p:nvSpPr>
        <p:spPr>
          <a:xfrm>
            <a:off x="0" y="5877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је најчешћи утицај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који реагују са лигандом и неких комплексирајућих супстанци (А) које реагују са јоном ме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3" name="Object 2"/>
          <p:cNvGraphicFramePr/>
          <p:nvPr/>
        </p:nvGraphicFramePr>
        <p:xfrm>
          <a:off x="1285920" y="3786120"/>
          <a:ext cx="58626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786120"/>
                    <a:ext cx="58626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179280" y="1785960"/>
            <a:ext cx="89647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нтрални јон метал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итељ комплекс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е прелазни елемен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пуњене d-орбитал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ептори електронских парова (Луисове кисел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централни јон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уклеар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g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Cl, [Co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централних јона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уклеар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[Pt(en)Cl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z)}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2286000" y="1785960"/>
            <a:ext cx="4022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6"/>
          <p:cNvSpPr/>
          <p:nvPr/>
        </p:nvSpPr>
        <p:spPr>
          <a:xfrm>
            <a:off x="3081240" y="1857240"/>
            <a:ext cx="574920" cy="628920"/>
          </a:xfrm>
          <a:prstGeom prst="ellipse">
            <a:avLst/>
          </a:prstGeom>
          <a:noFill/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1214280" y="107172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комплекса: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Ц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нтрални јон ме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3"/>
          <p:cNvSpPr/>
          <p:nvPr/>
        </p:nvSpPr>
        <p:spPr>
          <a:xfrm>
            <a:off x="34920" y="1967040"/>
            <a:ext cx="91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споредних реакција на основни процес грађења комплекса може се одредити увођењем условне (реалне) константе стаби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"/>
          <p:cNvSpPr/>
          <p:nvPr/>
        </p:nvSpPr>
        <p:spPr>
          <a:xfrm>
            <a:off x="1084680" y="1071720"/>
            <a:ext cx="72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ловна константа стабилности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7" name="Object 2"/>
          <p:cNvGraphicFramePr/>
          <p:nvPr/>
        </p:nvGraphicFramePr>
        <p:xfrm>
          <a:off x="2411280" y="3357720"/>
          <a:ext cx="354996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354996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TextBox 3"/>
          <p:cNvSpPr/>
          <p:nvPr/>
        </p:nvSpPr>
        <p:spPr>
          <a:xfrm>
            <a:off x="198360" y="4508640"/>
            <a:ext cx="87472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`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`L`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овна (реална) константа стабилности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`] - укупна концентрација јона метала, осим оног дела који је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у основној реакцији реаговао са  L градећи комплекс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L`] - укупна концентрација лиганда у свим облицима осим оног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дела који је реаговао са јоном метала,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Box 1"/>
          <p:cNvSpPr/>
          <p:nvPr/>
        </p:nvSpPr>
        <p:spPr>
          <a:xfrm>
            <a:off x="65160" y="1076400"/>
            <a:ext cx="863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чунавање условних константи стабилности примењују се коефицијенти споредних реакција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2689200" y="1989000"/>
          <a:ext cx="339084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1989000"/>
                    <a:ext cx="339084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3" name="Object 5"/>
          <p:cNvGraphicFramePr/>
          <p:nvPr/>
        </p:nvGraphicFramePr>
        <p:xfrm>
          <a:off x="2771640" y="2933640"/>
          <a:ext cx="329112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2933640"/>
                    <a:ext cx="3291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Object 6"/>
          <p:cNvGraphicFramePr/>
          <p:nvPr/>
        </p:nvGraphicFramePr>
        <p:xfrm>
          <a:off x="1619280" y="3941640"/>
          <a:ext cx="567036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3941640"/>
                    <a:ext cx="5670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TextBox 7"/>
          <p:cNvSpPr/>
          <p:nvPr/>
        </p:nvSpPr>
        <p:spPr>
          <a:xfrm>
            <a:off x="65160" y="5013360"/>
            <a:ext cx="87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(нема споредних реакција) → K`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`L`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1"/>
          <p:cNvSpPr/>
          <p:nvPr/>
        </p:nvSpPr>
        <p:spPr>
          <a:xfrm>
            <a:off x="95400" y="5722920"/>
            <a:ext cx="89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утицајем споредних реакција константа стабилности комплекса с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ловна (реална) константа стаби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1"/>
          <p:cNvSpPr/>
          <p:nvPr/>
        </p:nvSpPr>
        <p:spPr>
          <a:xfrm>
            <a:off x="173160" y="1276200"/>
            <a:ext cx="15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2"/>
          <p:cNvSpPr/>
          <p:nvPr/>
        </p:nvSpPr>
        <p:spPr>
          <a:xfrm>
            <a:off x="252360" y="1928880"/>
            <a:ext cx="86774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условну константу стабилности CaY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 при pH 5. (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a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029 mol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3"/>
          <p:cNvSpPr/>
          <p:nvPr/>
        </p:nvSpPr>
        <p:spPr>
          <a:xfrm>
            <a:off x="150840" y="3046320"/>
            <a:ext cx="806436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е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ицијент </a:t>
            </a:r>
            <a:r>
              <a:rPr b="0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EDTA представља табеларну вредност при одређеној pH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5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си 3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2" name="Object 3"/>
          <p:cNvGraphicFramePr/>
          <p:nvPr/>
        </p:nvGraphicFramePr>
        <p:xfrm>
          <a:off x="285840" y="5500800"/>
          <a:ext cx="644364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5500800"/>
                    <a:ext cx="64436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TextBox 1"/>
          <p:cNvSpPr/>
          <p:nvPr/>
        </p:nvSpPr>
        <p:spPr>
          <a:xfrm>
            <a:off x="1116000" y="112536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теже у хетерогеним систем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2"/>
          <p:cNvSpPr/>
          <p:nvPr/>
        </p:nvSpPr>
        <p:spPr>
          <a:xfrm>
            <a:off x="2000160" y="1785960"/>
            <a:ext cx="507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извод растворљив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Object 4"/>
          <p:cNvGraphicFramePr/>
          <p:nvPr/>
        </p:nvGraphicFramePr>
        <p:xfrm>
          <a:off x="1428840" y="3071880"/>
          <a:ext cx="214308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3071880"/>
                    <a:ext cx="21430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8" name="Straight Arrow Connector 8"/>
          <p:cNvCxnSpPr/>
          <p:nvPr/>
        </p:nvCxnSpPr>
        <p:spPr>
          <a:xfrm>
            <a:off x="3500280" y="5000760"/>
            <a:ext cx="858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9" name="TextBox 9"/>
          <p:cNvSpPr/>
          <p:nvPr/>
        </p:nvSpPr>
        <p:spPr>
          <a:xfrm>
            <a:off x="4357800" y="4572000"/>
            <a:ext cx="450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B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0"/>
          <p:cNvSpPr/>
          <p:nvPr/>
        </p:nvSpPr>
        <p:spPr>
          <a:xfrm>
            <a:off x="3929040" y="5572080"/>
            <a:ext cx="2500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Straight Arrow Connector 11"/>
          <p:cNvCxnSpPr/>
          <p:nvPr/>
        </p:nvCxnSpPr>
        <p:spPr>
          <a:xfrm>
            <a:off x="3071520" y="5857920"/>
            <a:ext cx="857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Box 4"/>
          <p:cNvSpPr/>
          <p:nvPr/>
        </p:nvSpPr>
        <p:spPr>
          <a:xfrm>
            <a:off x="1805040" y="1714680"/>
            <a:ext cx="249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(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5"/>
          <p:cNvSpPr/>
          <p:nvPr/>
        </p:nvSpPr>
        <p:spPr>
          <a:xfrm>
            <a:off x="1828800" y="2198520"/>
            <a:ext cx="277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6"/>
          <p:cNvSpPr/>
          <p:nvPr/>
        </p:nvSpPr>
        <p:spPr>
          <a:xfrm>
            <a:off x="1828800" y="2658960"/>
            <a:ext cx="126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293760" y="3108240"/>
            <a:ext cx="4643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(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Object 6"/>
              <p:cNvSpPr txBox="1"/>
              <p:nvPr/>
            </p:nvSpPr>
            <p:spPr>
              <a:xfrm>
                <a:off x="1028880" y="3726000"/>
                <a:ext cx="33336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Oval 10"/>
          <p:cNvSpPr/>
          <p:nvPr/>
        </p:nvSpPr>
        <p:spPr>
          <a:xfrm>
            <a:off x="1004760" y="3943440"/>
            <a:ext cx="505080" cy="6429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11"/>
          <p:cNvSpPr/>
          <p:nvPr/>
        </p:nvSpPr>
        <p:spPr>
          <a:xfrm>
            <a:off x="4857840" y="4071960"/>
            <a:ext cx="373860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равно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1"/>
          <p:cNvSpPr/>
          <p:nvPr/>
        </p:nvSpPr>
        <p:spPr>
          <a:xfrm>
            <a:off x="5500800" y="3200400"/>
            <a:ext cx="310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(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11"/>
          <p:cNvSpPr/>
          <p:nvPr/>
        </p:nvSpPr>
        <p:spPr>
          <a:xfrm>
            <a:off x="477720" y="4896000"/>
            <a:ext cx="5000760" cy="579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ight Brace 12"/>
          <p:cNvSpPr/>
          <p:nvPr/>
        </p:nvSpPr>
        <p:spPr>
          <a:xfrm rot="5400000">
            <a:off x="1352160" y="4878360"/>
            <a:ext cx="428400" cy="174924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749240"/>
              <a:gd name="textAreaBottom" fmla="*/ 1738080 h 17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1"/>
                  <a:pt x="10800" y="441"/>
                </a:cubicBezTo>
                <a:lnTo>
                  <a:pt x="10800" y="10359"/>
                </a:lnTo>
                <a:cubicBezTo>
                  <a:pt x="10800" y="10580"/>
                  <a:pt x="16200" y="10800"/>
                  <a:pt x="21600" y="10800"/>
                </a:cubicBezTo>
                <a:cubicBezTo>
                  <a:pt x="16200" y="10800"/>
                  <a:pt x="10800" y="11021"/>
                  <a:pt x="10800" y="11241"/>
                </a:cubicBezTo>
                <a:lnTo>
                  <a:pt x="10800" y="21159"/>
                </a:lnTo>
                <a:cubicBezTo>
                  <a:pt x="10800" y="2138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692280" y="6110280"/>
            <a:ext cx="464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раствор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14"/>
          <p:cNvSpPr/>
          <p:nvPr/>
        </p:nvSpPr>
        <p:spPr>
          <a:xfrm>
            <a:off x="5308560" y="5967360"/>
            <a:ext cx="3429000" cy="64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4" name="Object 21"/>
          <p:cNvGraphicFramePr/>
          <p:nvPr/>
        </p:nvGraphicFramePr>
        <p:xfrm>
          <a:off x="1835280" y="1052640"/>
          <a:ext cx="506700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052640"/>
                    <a:ext cx="5067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TextBox 4"/>
          <p:cNvSpPr/>
          <p:nvPr/>
        </p:nvSpPr>
        <p:spPr>
          <a:xfrm>
            <a:off x="1714680" y="1857240"/>
            <a:ext cx="27144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5"/>
          <p:cNvSpPr/>
          <p:nvPr/>
        </p:nvSpPr>
        <p:spPr>
          <a:xfrm>
            <a:off x="395280" y="2637000"/>
            <a:ext cx="439092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та је растворљивост (S)</a:t>
            </a:r>
            <a:r>
              <a:rPr b="1" lang="sr-Latn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7"/>
          <p:cNvSpPr/>
          <p:nvPr/>
        </p:nvSpPr>
        <p:spPr>
          <a:xfrm>
            <a:off x="395280" y="3857760"/>
            <a:ext cx="36720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ova се раства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8"/>
          <p:cNvSpPr/>
          <p:nvPr/>
        </p:nvSpPr>
        <p:spPr>
          <a:xfrm>
            <a:off x="3886200" y="3849840"/>
            <a:ext cx="1357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9"/>
          <p:cNvSpPr/>
          <p:nvPr/>
        </p:nvSpPr>
        <p:spPr>
          <a:xfrm>
            <a:off x="5643720" y="3929040"/>
            <a:ext cx="1357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10"/>
          <p:cNvSpPr/>
          <p:nvPr/>
        </p:nvSpPr>
        <p:spPr>
          <a:xfrm>
            <a:off x="658800" y="4537080"/>
            <a:ext cx="1644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11"/>
          <p:cNvSpPr/>
          <p:nvPr/>
        </p:nvSpPr>
        <p:spPr>
          <a:xfrm>
            <a:off x="2749680" y="4537080"/>
            <a:ext cx="1643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12"/>
          <p:cNvSpPr/>
          <p:nvPr/>
        </p:nvSpPr>
        <p:spPr>
          <a:xfrm>
            <a:off x="673200" y="5308560"/>
            <a:ext cx="47149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xS)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S)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3"/>
          <p:cNvSpPr/>
          <p:nvPr/>
        </p:nvSpPr>
        <p:spPr>
          <a:xfrm>
            <a:off x="684360" y="6078600"/>
            <a:ext cx="471456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x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x+y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5" name="Object 6"/>
              <p:cNvSpPr txBox="1"/>
              <p:nvPr/>
            </p:nvSpPr>
            <p:spPr>
              <a:xfrm>
                <a:off x="5918040" y="5261040"/>
                <a:ext cx="279720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y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006" name="Object 24"/>
          <p:cNvGraphicFramePr/>
          <p:nvPr/>
        </p:nvGraphicFramePr>
        <p:xfrm>
          <a:off x="714240" y="1285920"/>
          <a:ext cx="545940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285920"/>
                    <a:ext cx="5459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Object 25"/>
          <p:cNvGraphicFramePr/>
          <p:nvPr/>
        </p:nvGraphicFramePr>
        <p:xfrm>
          <a:off x="468360" y="3284640"/>
          <a:ext cx="609264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9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284640"/>
                    <a:ext cx="60926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Box 3"/>
          <p:cNvSpPr/>
          <p:nvPr/>
        </p:nvSpPr>
        <p:spPr>
          <a:xfrm>
            <a:off x="179280" y="54936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4"/>
          <p:cNvSpPr/>
          <p:nvPr/>
        </p:nvSpPr>
        <p:spPr>
          <a:xfrm>
            <a:off x="179280" y="981000"/>
            <a:ext cx="889344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растворљивости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je 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растворљивост ове соли у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/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(Ag) = 107,8; Ar(Cl) = 35,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7"/>
          <p:cNvSpPr/>
          <p:nvPr/>
        </p:nvSpPr>
        <p:spPr>
          <a:xfrm>
            <a:off x="6191280" y="1857240"/>
            <a:ext cx="29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AgCl)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8"/>
          <p:cNvSpPr/>
          <p:nvPr/>
        </p:nvSpPr>
        <p:spPr>
          <a:xfrm>
            <a:off x="365040" y="2852640"/>
            <a:ext cx="285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AgCl)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11"/>
          <p:cNvSpPr/>
          <p:nvPr/>
        </p:nvSpPr>
        <p:spPr>
          <a:xfrm>
            <a:off x="6572160" y="26431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13"/>
          <p:cNvSpPr/>
          <p:nvPr/>
        </p:nvSpPr>
        <p:spPr>
          <a:xfrm>
            <a:off x="365040" y="3429000"/>
            <a:ext cx="455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AgCl)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 x S = S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6" name="Object 12"/>
          <p:cNvGraphicFramePr/>
          <p:nvPr/>
        </p:nvGraphicFramePr>
        <p:xfrm>
          <a:off x="365040" y="4005360"/>
          <a:ext cx="521028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4005360"/>
                    <a:ext cx="52102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8" name="TextBox 4"/>
          <p:cNvSpPr/>
          <p:nvPr/>
        </p:nvSpPr>
        <p:spPr>
          <a:xfrm>
            <a:off x="365040" y="4941720"/>
            <a:ext cx="26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gCl) = 143,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5"/>
          <p:cNvSpPr/>
          <p:nvPr/>
        </p:nvSpPr>
        <p:spPr>
          <a:xfrm>
            <a:off x="1006560" y="55166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AgCl  :  143,3 g 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  :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16"/>
          <p:cNvSpPr/>
          <p:nvPr/>
        </p:nvSpPr>
        <p:spPr>
          <a:xfrm>
            <a:off x="1006560" y="602136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0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2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mg/dm</a:t>
            </a:r>
            <a:r>
              <a:rPr b="0" lang="sr-Latn-C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Ag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Object 17"/>
          <p:cNvGraphicFramePr/>
          <p:nvPr/>
        </p:nvGraphicFramePr>
        <p:xfrm>
          <a:off x="365040" y="2286000"/>
          <a:ext cx="492912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040" y="2286000"/>
                    <a:ext cx="49291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Box 4"/>
          <p:cNvSpPr/>
          <p:nvPr/>
        </p:nvSpPr>
        <p:spPr>
          <a:xfrm>
            <a:off x="0" y="112536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растворљивост (mol/L) Mg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раствору чија је pH вред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ко је производ растворљивос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6"/>
          <p:cNvSpPr/>
          <p:nvPr/>
        </p:nvSpPr>
        <p:spPr>
          <a:xfrm>
            <a:off x="365040" y="2857680"/>
            <a:ext cx="388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g(OH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5" name="Object 12"/>
          <p:cNvGraphicFramePr/>
          <p:nvPr/>
        </p:nvGraphicFramePr>
        <p:xfrm>
          <a:off x="639720" y="5540400"/>
          <a:ext cx="512604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540400"/>
                    <a:ext cx="51260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Object 5"/>
          <p:cNvGraphicFramePr/>
          <p:nvPr/>
        </p:nvGraphicFramePr>
        <p:xfrm>
          <a:off x="365040" y="2133720"/>
          <a:ext cx="53499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040" y="2133720"/>
                    <a:ext cx="5349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Rectangle 15"/>
          <p:cNvSpPr/>
          <p:nvPr/>
        </p:nvSpPr>
        <p:spPr>
          <a:xfrm>
            <a:off x="403560" y="3789360"/>
            <a:ext cx="1221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Object 6"/>
          <p:cNvGraphicFramePr/>
          <p:nvPr/>
        </p:nvGraphicFramePr>
        <p:xfrm>
          <a:off x="2260440" y="3789360"/>
          <a:ext cx="31035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0440" y="3789360"/>
                    <a:ext cx="31035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Object 7"/>
          <p:cNvGraphicFramePr/>
          <p:nvPr/>
        </p:nvGraphicFramePr>
        <p:xfrm>
          <a:off x="6084720" y="3789360"/>
          <a:ext cx="2735280" cy="4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3789360"/>
                    <a:ext cx="27352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Object 8"/>
          <p:cNvGraphicFramePr/>
          <p:nvPr/>
        </p:nvGraphicFramePr>
        <p:xfrm>
          <a:off x="5929200" y="2928960"/>
          <a:ext cx="283860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29200" y="2928960"/>
                    <a:ext cx="2838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6" name="TextBox 20"/>
          <p:cNvSpPr/>
          <p:nvPr/>
        </p:nvSpPr>
        <p:spPr>
          <a:xfrm>
            <a:off x="639720" y="4724280"/>
            <a:ext cx="51116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g(OH)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Mg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ight Arrow 21"/>
          <p:cNvSpPr/>
          <p:nvPr/>
        </p:nvSpPr>
        <p:spPr>
          <a:xfrm>
            <a:off x="1692360" y="4005360"/>
            <a:ext cx="358560" cy="712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ight Arrow 22"/>
          <p:cNvSpPr/>
          <p:nvPr/>
        </p:nvSpPr>
        <p:spPr>
          <a:xfrm>
            <a:off x="5508720" y="4005360"/>
            <a:ext cx="358560" cy="712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3"/>
          <p:cNvSpPr/>
          <p:nvPr/>
        </p:nvSpPr>
        <p:spPr>
          <a:xfrm>
            <a:off x="6405840" y="2071800"/>
            <a:ext cx="270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g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Box 1"/>
          <p:cNvSpPr/>
          <p:nvPr/>
        </p:nvSpPr>
        <p:spPr>
          <a:xfrm>
            <a:off x="539640" y="105264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заједничког јона на растворљивост тешко растворног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2"/>
          <p:cNvSpPr/>
          <p:nvPr/>
        </p:nvSpPr>
        <p:spPr>
          <a:xfrm>
            <a:off x="250920" y="522936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тешко растворног једињења у присуству заједничког јона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смањуј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2" name="Object 7"/>
          <p:cNvGraphicFramePr/>
          <p:nvPr/>
        </p:nvGraphicFramePr>
        <p:xfrm>
          <a:off x="1332000" y="3716280"/>
          <a:ext cx="601020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716280"/>
                    <a:ext cx="6010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4" name="TextBox 5"/>
          <p:cNvSpPr/>
          <p:nvPr/>
        </p:nvSpPr>
        <p:spPr>
          <a:xfrm>
            <a:off x="6012000" y="2421000"/>
            <a:ext cx="93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6"/>
          <p:cNvSpPr/>
          <p:nvPr/>
        </p:nvSpPr>
        <p:spPr>
          <a:xfrm>
            <a:off x="3564000" y="2421000"/>
            <a:ext cx="151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eft Arrow 7"/>
          <p:cNvSpPr/>
          <p:nvPr/>
        </p:nvSpPr>
        <p:spPr>
          <a:xfrm>
            <a:off x="2843280" y="4581360"/>
            <a:ext cx="2592360" cy="5032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Down Arrow Callout 10"/>
          <p:cNvSpPr/>
          <p:nvPr/>
        </p:nvSpPr>
        <p:spPr>
          <a:xfrm>
            <a:off x="3419640" y="2349360"/>
            <a:ext cx="1657080" cy="1224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Down Arrow Callout 12"/>
          <p:cNvSpPr/>
          <p:nvPr/>
        </p:nvSpPr>
        <p:spPr>
          <a:xfrm>
            <a:off x="5651640" y="2349360"/>
            <a:ext cx="1657080" cy="1224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TextBox 1"/>
          <p:cNvSpPr/>
          <p:nvPr/>
        </p:nvSpPr>
        <p:spPr>
          <a:xfrm>
            <a:off x="324000" y="9079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2"/>
          <p:cNvSpPr/>
          <p:nvPr/>
        </p:nvSpPr>
        <p:spPr>
          <a:xfrm>
            <a:off x="179280" y="1557360"/>
            <a:ext cx="8785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рачунати растворљивост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чистој води и у 0,01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. 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bI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,1 x 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3"/>
          <p:cNvSpPr/>
          <p:nvPr/>
        </p:nvSpPr>
        <p:spPr>
          <a:xfrm>
            <a:off x="639720" y="3336840"/>
            <a:ext cx="5286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b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 x (2S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6"/>
          <p:cNvSpPr/>
          <p:nvPr/>
        </p:nvSpPr>
        <p:spPr>
          <a:xfrm>
            <a:off x="6675480" y="25653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7"/>
          <p:cNvSpPr/>
          <p:nvPr/>
        </p:nvSpPr>
        <p:spPr>
          <a:xfrm>
            <a:off x="6675480" y="3141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8"/>
          <p:cNvSpPr/>
          <p:nvPr/>
        </p:nvSpPr>
        <p:spPr>
          <a:xfrm>
            <a:off x="639720" y="4076640"/>
            <a:ext cx="277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b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S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5" name="Object 5"/>
          <p:cNvGraphicFramePr/>
          <p:nvPr/>
        </p:nvGraphicFramePr>
        <p:xfrm>
          <a:off x="639720" y="4956120"/>
          <a:ext cx="422748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4956120"/>
                    <a:ext cx="422748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7" name="TextBox 11"/>
          <p:cNvSpPr/>
          <p:nvPr/>
        </p:nvSpPr>
        <p:spPr>
          <a:xfrm>
            <a:off x="6400800" y="5029200"/>
            <a:ext cx="164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8" name="Object 19"/>
          <p:cNvGraphicFramePr/>
          <p:nvPr/>
        </p:nvGraphicFramePr>
        <p:xfrm>
          <a:off x="639720" y="2637000"/>
          <a:ext cx="52596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720" y="2637000"/>
                    <a:ext cx="525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"/>
          <p:cNvSpPr/>
          <p:nvPr/>
        </p:nvSpPr>
        <p:spPr>
          <a:xfrm>
            <a:off x="179280" y="2529000"/>
            <a:ext cx="882036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јони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</a:t>
            </a:r>
            <a:r>
              <a:rPr b="0" lang="sr-Latn-CS" sz="23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3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r</a:t>
            </a:r>
            <a:r>
              <a:rPr b="0" lang="sr-Latn-CS" sz="23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0" lang="sr-Latn-CS" sz="23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H</a:t>
            </a:r>
            <a:r>
              <a:rPr b="0" lang="sr-Latn-CS" sz="23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N</a:t>
            </a:r>
            <a:r>
              <a:rPr b="0" lang="sr-Latn-CS" sz="23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трални молекули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CO, NH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NO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озил катјон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42920" y="4797360"/>
            <a:ext cx="8605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ректно везани за јон метала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и електрона (Луисове базе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2357280" y="1857240"/>
            <a:ext cx="3889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7"/>
          <p:cNvSpPr/>
          <p:nvPr/>
        </p:nvSpPr>
        <p:spPr>
          <a:xfrm>
            <a:off x="3870360" y="1839960"/>
            <a:ext cx="793800" cy="7920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1874160" y="1071720"/>
            <a:ext cx="51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комплекса: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Box 2"/>
          <p:cNvSpPr/>
          <p:nvPr/>
        </p:nvSpPr>
        <p:spPr>
          <a:xfrm>
            <a:off x="2771640" y="20271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     →    Na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+    I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3"/>
          <p:cNvSpPr/>
          <p:nvPr/>
        </p:nvSpPr>
        <p:spPr>
          <a:xfrm>
            <a:off x="5643720" y="1000080"/>
            <a:ext cx="1285560" cy="16430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4"/>
          <p:cNvSpPr/>
          <p:nvPr/>
        </p:nvSpPr>
        <p:spPr>
          <a:xfrm>
            <a:off x="5429160" y="2714760"/>
            <a:ext cx="309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1 mol/dm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5"/>
          <p:cNvSpPr/>
          <p:nvPr/>
        </p:nvSpPr>
        <p:spPr>
          <a:xfrm>
            <a:off x="971640" y="3141720"/>
            <a:ext cx="3527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I) &gt;&gt;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b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6"/>
          <p:cNvSpPr/>
          <p:nvPr/>
        </p:nvSpPr>
        <p:spPr>
          <a:xfrm>
            <a:off x="971640" y="3933720"/>
            <a:ext cx="528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b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 x (0,01)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5" name="Object 4"/>
          <p:cNvGraphicFramePr/>
          <p:nvPr/>
        </p:nvGraphicFramePr>
        <p:xfrm>
          <a:off x="1096920" y="4832280"/>
          <a:ext cx="397512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4832280"/>
                    <a:ext cx="39751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7" name="TextBox 9"/>
          <p:cNvSpPr/>
          <p:nvPr/>
        </p:nvSpPr>
        <p:spPr>
          <a:xfrm>
            <a:off x="1096920" y="6021360"/>
            <a:ext cx="273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&gt; S(Na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8" name="Straight Arrow Connector 13"/>
          <p:cNvCxnSpPr/>
          <p:nvPr/>
        </p:nvCxnSpPr>
        <p:spPr>
          <a:xfrm flipH="1" flipV="1">
            <a:off x="2410920" y="1988280"/>
            <a:ext cx="1858320" cy="25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069" name="Object 11"/>
          <p:cNvGraphicFramePr/>
          <p:nvPr/>
        </p:nvGraphicFramePr>
        <p:xfrm>
          <a:off x="1258920" y="1235160"/>
          <a:ext cx="56167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235160"/>
                    <a:ext cx="56167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1" name="Rectangle 10"/>
          <p:cNvSpPr/>
          <p:nvPr/>
        </p:nvSpPr>
        <p:spPr>
          <a:xfrm>
            <a:off x="6405120" y="5029200"/>
            <a:ext cx="92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Box 2"/>
          <p:cNvSpPr/>
          <p:nvPr/>
        </p:nvSpPr>
        <p:spPr>
          <a:xfrm>
            <a:off x="182520" y="1285920"/>
            <a:ext cx="882036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рачунати растворљивост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чистој води и у раствору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l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10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3"/>
          <p:cNvSpPr/>
          <p:nvPr/>
        </p:nvSpPr>
        <p:spPr>
          <a:xfrm>
            <a:off x="639720" y="3657600"/>
            <a:ext cx="6408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 x (2S)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S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6"/>
          <p:cNvSpPr/>
          <p:nvPr/>
        </p:nvSpPr>
        <p:spPr>
          <a:xfrm>
            <a:off x="7358040" y="3475080"/>
            <a:ext cx="1643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11"/>
          <p:cNvSpPr/>
          <p:nvPr/>
        </p:nvSpPr>
        <p:spPr>
          <a:xfrm>
            <a:off x="6400800" y="5029200"/>
            <a:ext cx="164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6" name="Object 12"/>
          <p:cNvGraphicFramePr/>
          <p:nvPr/>
        </p:nvGraphicFramePr>
        <p:xfrm>
          <a:off x="557280" y="4613400"/>
          <a:ext cx="54910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613400"/>
                    <a:ext cx="54910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8" name="Object 18"/>
          <p:cNvGraphicFramePr/>
          <p:nvPr/>
        </p:nvGraphicFramePr>
        <p:xfrm>
          <a:off x="639720" y="2835360"/>
          <a:ext cx="6335640" cy="4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720" y="2835360"/>
                    <a:ext cx="63356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51280" y="476280"/>
            <a:ext cx="136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4"/>
          <p:cNvSpPr/>
          <p:nvPr/>
        </p:nvSpPr>
        <p:spPr>
          <a:xfrm>
            <a:off x="5508720" y="2781360"/>
            <a:ext cx="316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5"/>
          <p:cNvSpPr/>
          <p:nvPr/>
        </p:nvSpPr>
        <p:spPr>
          <a:xfrm>
            <a:off x="639720" y="3357720"/>
            <a:ext cx="468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l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&gt;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3"/>
          <p:cNvSpPr/>
          <p:nvPr/>
        </p:nvSpPr>
        <p:spPr>
          <a:xfrm>
            <a:off x="639720" y="4005360"/>
            <a:ext cx="69134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(2S)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8S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4" name="Object 12"/>
          <p:cNvGraphicFramePr/>
          <p:nvPr/>
        </p:nvGraphicFramePr>
        <p:xfrm>
          <a:off x="822240" y="5000760"/>
          <a:ext cx="372924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5000760"/>
                    <a:ext cx="37292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TextBox 11"/>
          <p:cNvSpPr/>
          <p:nvPr/>
        </p:nvSpPr>
        <p:spPr>
          <a:xfrm>
            <a:off x="5851440" y="5303880"/>
            <a:ext cx="30974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Cl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4"/>
          <p:cNvSpPr/>
          <p:nvPr/>
        </p:nvSpPr>
        <p:spPr>
          <a:xfrm flipH="1">
            <a:off x="2050920" y="1268280"/>
            <a:ext cx="208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8" name="Object 13"/>
          <p:cNvGraphicFramePr/>
          <p:nvPr/>
        </p:nvGraphicFramePr>
        <p:xfrm>
          <a:off x="1476360" y="1268280"/>
          <a:ext cx="61070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268280"/>
                    <a:ext cx="6107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0" name="Object 14"/>
          <p:cNvGraphicFramePr/>
          <p:nvPr/>
        </p:nvGraphicFramePr>
        <p:xfrm>
          <a:off x="1913040" y="2060640"/>
          <a:ext cx="54673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13040" y="2060640"/>
                    <a:ext cx="5467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2" name="Oval 12"/>
          <p:cNvSpPr/>
          <p:nvPr/>
        </p:nvSpPr>
        <p:spPr>
          <a:xfrm>
            <a:off x="4356000" y="1052640"/>
            <a:ext cx="1511280" cy="172872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250920" y="981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страног јона на растворљивост тешко растворног једињења – сони ефе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2"/>
          <p:cNvSpPr/>
          <p:nvPr/>
        </p:nvSpPr>
        <p:spPr>
          <a:xfrm>
            <a:off x="76320" y="2052720"/>
            <a:ext cx="89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тешко растворног једињењ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се његовом раствору дода електролит који са њим нема заједнички јон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и ефека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5" name="Object 3"/>
          <p:cNvGraphicFramePr/>
          <p:nvPr/>
        </p:nvGraphicFramePr>
        <p:xfrm>
          <a:off x="1835280" y="2997360"/>
          <a:ext cx="4628880" cy="4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997360"/>
                    <a:ext cx="462888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7" name="TextBox 5"/>
          <p:cNvSpPr/>
          <p:nvPr/>
        </p:nvSpPr>
        <p:spPr>
          <a:xfrm>
            <a:off x="2411280" y="3500280"/>
            <a:ext cx="2808360" cy="5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М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А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6"/>
          <p:cNvSpPr/>
          <p:nvPr/>
        </p:nvSpPr>
        <p:spPr>
          <a:xfrm>
            <a:off x="468360" y="4076640"/>
            <a:ext cx="7848720" cy="5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l-GR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1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ɑ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+ 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ɑ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-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М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+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А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М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А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+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1"/>
          <p:cNvSpPr/>
          <p:nvPr/>
        </p:nvSpPr>
        <p:spPr>
          <a:xfrm>
            <a:off x="52560" y="49150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у раствор тешко растворне соли дода електролит који нема заједнички јон са талог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2"/>
          <p:cNvSpPr/>
          <p:nvPr/>
        </p:nvSpPr>
        <p:spPr>
          <a:xfrm>
            <a:off x="1187280" y="5634000"/>
            <a:ext cx="568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 јонска сила раств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 се коефицијент активитета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 концентрација јона М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1" name="Object 12"/>
          <p:cNvGraphicFramePr/>
          <p:nvPr/>
        </p:nvGraphicFramePr>
        <p:xfrm>
          <a:off x="6572160" y="5715000"/>
          <a:ext cx="228780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72160" y="5715000"/>
                    <a:ext cx="2287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Box 3"/>
          <p:cNvSpPr/>
          <p:nvPr/>
        </p:nvSpPr>
        <p:spPr>
          <a:xfrm>
            <a:off x="139680" y="765000"/>
            <a:ext cx="8535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растворљивост AgCl у 0,1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раствору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gCl) = 1,7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Box 1"/>
          <p:cNvSpPr/>
          <p:nvPr/>
        </p:nvSpPr>
        <p:spPr>
          <a:xfrm>
            <a:off x="250920" y="3141720"/>
            <a:ext cx="86421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g+</a:t>
            </a:r>
            <a:r>
              <a:rPr b="0" lang="sr-R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l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еларне вредности и за = 0,1 имају вредност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g+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75 и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l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179280" y="2637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½ (0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½ (0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4"/>
          <p:cNvSpPr/>
          <p:nvPr/>
        </p:nvSpPr>
        <p:spPr>
          <a:xfrm>
            <a:off x="2556000" y="4149720"/>
            <a:ext cx="3060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gCl)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g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5"/>
          <p:cNvSpPr/>
          <p:nvPr/>
        </p:nvSpPr>
        <p:spPr>
          <a:xfrm>
            <a:off x="1908000" y="4724280"/>
            <a:ext cx="4537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l-G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(AgCl)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s(AgCl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g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l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8" name="Object 17"/>
          <p:cNvGraphicFramePr/>
          <p:nvPr/>
        </p:nvGraphicFramePr>
        <p:xfrm>
          <a:off x="2484360" y="2205000"/>
          <a:ext cx="366408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205000"/>
                    <a:ext cx="36640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0" name="Object 5"/>
          <p:cNvGraphicFramePr/>
          <p:nvPr/>
        </p:nvGraphicFramePr>
        <p:xfrm>
          <a:off x="324000" y="5516640"/>
          <a:ext cx="852012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516640"/>
                    <a:ext cx="85201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Box 1"/>
          <p:cNvSpPr/>
          <p:nvPr/>
        </p:nvSpPr>
        <p:spPr>
          <a:xfrm>
            <a:off x="324000" y="9540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споредних реакција на растворљив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ловни производ растворљ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2"/>
          <p:cNvSpPr/>
          <p:nvPr/>
        </p:nvSpPr>
        <p:spPr>
          <a:xfrm>
            <a:off x="54000" y="1989000"/>
            <a:ext cx="90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других супстанци у раствору, које могу реаговати са јонима тешко растворног једињења, утицаће на смањење њихове концентрације – помераће се равнотежна реакција у смеру повећања растворљивости тог једињ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3"/>
          <p:cNvSpPr/>
          <p:nvPr/>
        </p:nvSpPr>
        <p:spPr>
          <a:xfrm>
            <a:off x="0" y="4470480"/>
            <a:ext cx="91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споредних реакција на основни процес растварања талога може се одредити увођењем условног (реалног) производа растворљив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3"/>
          <p:cNvSpPr/>
          <p:nvPr/>
        </p:nvSpPr>
        <p:spPr>
          <a:xfrm>
            <a:off x="200160" y="5767560"/>
            <a:ext cx="885636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`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овни (реални) производ растворљив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`] и [А`] - укупне концентрације свих растворених честица које садрже М или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6" name="Object 8"/>
          <p:cNvGraphicFramePr/>
          <p:nvPr/>
        </p:nvGraphicFramePr>
        <p:xfrm>
          <a:off x="2771640" y="3211560"/>
          <a:ext cx="301968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11560"/>
                    <a:ext cx="30196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8" name="Object 9"/>
          <p:cNvGraphicFramePr/>
          <p:nvPr/>
        </p:nvGraphicFramePr>
        <p:xfrm>
          <a:off x="3446640" y="5300640"/>
          <a:ext cx="193356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5300640"/>
                    <a:ext cx="19335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Box 1"/>
          <p:cNvSpPr/>
          <p:nvPr/>
        </p:nvSpPr>
        <p:spPr>
          <a:xfrm>
            <a:off x="65160" y="1076400"/>
            <a:ext cx="863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чунавање условног производа растворљивости примењују се коефицијенти споредних реакција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1" name="Object 4"/>
          <p:cNvGraphicFramePr/>
          <p:nvPr/>
        </p:nvGraphicFramePr>
        <p:xfrm>
          <a:off x="2689200" y="1989000"/>
          <a:ext cx="339084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1989000"/>
                    <a:ext cx="339084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Object 5"/>
          <p:cNvGraphicFramePr/>
          <p:nvPr/>
        </p:nvGraphicFramePr>
        <p:xfrm>
          <a:off x="2771640" y="2933640"/>
          <a:ext cx="329112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2933640"/>
                    <a:ext cx="3291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Object 6"/>
          <p:cNvGraphicFramePr/>
          <p:nvPr/>
        </p:nvGraphicFramePr>
        <p:xfrm>
          <a:off x="1619280" y="3941640"/>
          <a:ext cx="567036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3941640"/>
                    <a:ext cx="5670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TextBox 7"/>
          <p:cNvSpPr/>
          <p:nvPr/>
        </p:nvSpPr>
        <p:spPr>
          <a:xfrm>
            <a:off x="65160" y="5013360"/>
            <a:ext cx="893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(нема споредних реакција) → K`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`А`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1"/>
          <p:cNvSpPr/>
          <p:nvPr/>
        </p:nvSpPr>
        <p:spPr>
          <a:xfrm>
            <a:off x="95400" y="5722920"/>
            <a:ext cx="89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утицајем споредних реакција повећава се растворљивост талога – условни (реални) производ растворљ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Box 2"/>
          <p:cNvSpPr/>
          <p:nvPr/>
        </p:nvSpPr>
        <p:spPr>
          <a:xfrm>
            <a:off x="2627280" y="981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акционо талож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1"/>
          <p:cNvSpPr/>
          <p:nvPr/>
        </p:nvSpPr>
        <p:spPr>
          <a:xfrm>
            <a:off x="108000" y="1571760"/>
            <a:ext cx="89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у да два јона граде са трећим јоном тешко растворна једињења која се знатно разликују по растворљивости, могуће је та два јона одвојити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фракционим таложењ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2"/>
          <p:cNvSpPr/>
          <p:nvPr/>
        </p:nvSpPr>
        <p:spPr>
          <a:xfrm>
            <a:off x="108000" y="2973240"/>
            <a:ext cx="899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у раствору имамо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е који са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ом граде тешко растворна једињења, прво се таложи онај јон који гради теже растворну со (тј. има мању вредност производа растворљив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639720" y="4725720"/>
            <a:ext cx="496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‾ + I‾ +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Cl ↓  +   AgI↓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5"/>
          <p:cNvSpPr/>
          <p:nvPr/>
        </p:nvSpPr>
        <p:spPr>
          <a:xfrm>
            <a:off x="639720" y="5300640"/>
            <a:ext cx="3429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AgCl)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6"/>
          <p:cNvSpPr/>
          <p:nvPr/>
        </p:nvSpPr>
        <p:spPr>
          <a:xfrm>
            <a:off x="639720" y="5805360"/>
            <a:ext cx="3429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A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3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Box 1"/>
          <p:cNvSpPr/>
          <p:nvPr/>
        </p:nvSpPr>
        <p:spPr>
          <a:xfrm>
            <a:off x="217440" y="1484280"/>
            <a:ext cx="88916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 се таложи AgI јер је за његово таложење потребна мања концентрација Ag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(нижа вредност К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"/>
          <p:cNvSpPr/>
          <p:nvPr/>
        </p:nvSpPr>
        <p:spPr>
          <a:xfrm>
            <a:off x="324000" y="4292640"/>
            <a:ext cx="849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почиње таложење тек када је концентрација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‾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2,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та мања од концентрације Cl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4"/>
          <p:cNvSpPr/>
          <p:nvPr/>
        </p:nvSpPr>
        <p:spPr>
          <a:xfrm>
            <a:off x="250920" y="5373720"/>
            <a:ext cx="849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кционо се таложе сви хидроксиди, сулфиди, карбонати и оксала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718848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Box 1"/>
          <p:cNvSpPr/>
          <p:nvPr/>
        </p:nvSpPr>
        <p:spPr>
          <a:xfrm>
            <a:off x="1692360" y="1052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акционо таложење хидрокс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3"/>
          <p:cNvSpPr/>
          <p:nvPr/>
        </p:nvSpPr>
        <p:spPr>
          <a:xfrm>
            <a:off x="900000" y="2492280"/>
            <a:ext cx="64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О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чиње таложе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4"/>
          <p:cNvSpPr/>
          <p:nvPr/>
        </p:nvSpPr>
        <p:spPr>
          <a:xfrm>
            <a:off x="250920" y="3767040"/>
            <a:ext cx="8642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 су у директној вези са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ма → може се одредити pH при коме почиње таложење, као и pH при коме је таложење потпуно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тативно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4"/>
          <p:cNvSpPr/>
          <p:nvPr/>
        </p:nvSpPr>
        <p:spPr>
          <a:xfrm>
            <a:off x="755640" y="3429000"/>
            <a:ext cx="5977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и лиган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и за метал преко једног донор атом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5"/>
          <p:cNvSpPr/>
          <p:nvPr/>
        </p:nvSpPr>
        <p:spPr>
          <a:xfrm>
            <a:off x="971640" y="5013360"/>
            <a:ext cx="7272360" cy="11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: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sr-Latn-CS" sz="24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Br</a:t>
            </a:r>
            <a:r>
              <a:rPr b="1" lang="sr-Latn-CS" sz="24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I</a:t>
            </a:r>
            <a:r>
              <a:rPr b="1" lang="sr-Latn-CS" sz="24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CN</a:t>
            </a:r>
            <a:r>
              <a:rPr b="1" lang="sr-Latn-CS" sz="24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6"/>
          <p:cNvSpPr/>
          <p:nvPr/>
        </p:nvSpPr>
        <p:spPr>
          <a:xfrm flipH="1">
            <a:off x="1928520" y="528624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755640" y="1268280"/>
            <a:ext cx="46083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могу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и ли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лидентатни ли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Box 1"/>
          <p:cNvSpPr/>
          <p:nvPr/>
        </p:nvSpPr>
        <p:spPr>
          <a:xfrm>
            <a:off x="276120" y="620640"/>
            <a:ext cx="8688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при којој вредности почиње таложење Mg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 којој је ово таложење квантитати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2"/>
          <p:cNvSpPr/>
          <p:nvPr/>
        </p:nvSpPr>
        <p:spPr>
          <a:xfrm>
            <a:off x="6572160" y="1857240"/>
            <a:ext cx="2417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g(OH)</a:t>
            </a:r>
            <a:r>
              <a:rPr b="0" lang="en-US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6"/>
          <p:cNvSpPr/>
          <p:nvPr/>
        </p:nvSpPr>
        <p:spPr>
          <a:xfrm>
            <a:off x="1547640" y="4005360"/>
            <a:ext cx="1470240" cy="54612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2"/>
              <p:cNvSpPr txBox="1"/>
              <p:nvPr/>
            </p:nvSpPr>
            <p:spPr>
              <a:xfrm>
                <a:off x="2714760" y="1857240"/>
                <a:ext cx="2651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6" name="Rectangle 5"/>
          <p:cNvSpPr/>
          <p:nvPr/>
        </p:nvSpPr>
        <p:spPr>
          <a:xfrm>
            <a:off x="3975480" y="24638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7" name="Object 3"/>
              <p:cNvSpPr txBox="1"/>
              <p:nvPr/>
            </p:nvSpPr>
            <p:spPr>
              <a:xfrm>
                <a:off x="3116160" y="2392200"/>
                <a:ext cx="951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48" name="Object 4"/>
          <p:cNvGraphicFramePr/>
          <p:nvPr/>
        </p:nvGraphicFramePr>
        <p:xfrm>
          <a:off x="1785960" y="3071880"/>
          <a:ext cx="40514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071880"/>
                    <a:ext cx="40514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0" name="TextBox 8"/>
          <p:cNvSpPr/>
          <p:nvPr/>
        </p:nvSpPr>
        <p:spPr>
          <a:xfrm>
            <a:off x="1609560" y="4017960"/>
            <a:ext cx="41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10,4   - почиње талож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ight Arrow 9"/>
          <p:cNvSpPr/>
          <p:nvPr/>
        </p:nvSpPr>
        <p:spPr>
          <a:xfrm>
            <a:off x="684360" y="4119480"/>
            <a:ext cx="576000" cy="25884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5871600" y="3286080"/>
            <a:ext cx="113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l/dm</a:t>
            </a:r>
            <a:r>
              <a:rPr b="0" lang="en-US" sz="2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2"/>
          <p:cNvSpPr/>
          <p:nvPr/>
        </p:nvSpPr>
        <p:spPr>
          <a:xfrm>
            <a:off x="179280" y="46227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вантитативно истало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4" name="Object 13"/>
          <p:cNvGraphicFramePr/>
          <p:nvPr/>
        </p:nvGraphicFramePr>
        <p:xfrm>
          <a:off x="1763640" y="5157720"/>
          <a:ext cx="57070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5157720"/>
                    <a:ext cx="5707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6" name="Rectangle 6"/>
          <p:cNvSpPr/>
          <p:nvPr/>
        </p:nvSpPr>
        <p:spPr>
          <a:xfrm>
            <a:off x="1547640" y="6281640"/>
            <a:ext cx="1473480" cy="46044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8"/>
          <p:cNvSpPr/>
          <p:nvPr/>
        </p:nvSpPr>
        <p:spPr>
          <a:xfrm>
            <a:off x="1598760" y="623736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12,4   - квантитативно истало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ight Arrow 16"/>
          <p:cNvSpPr/>
          <p:nvPr/>
        </p:nvSpPr>
        <p:spPr>
          <a:xfrm>
            <a:off x="539640" y="6291360"/>
            <a:ext cx="719280" cy="306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17"/>
          <p:cNvSpPr/>
          <p:nvPr/>
        </p:nvSpPr>
        <p:spPr>
          <a:xfrm>
            <a:off x="262440" y="2421000"/>
            <a:ext cx="301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иње таложење:</a:t>
            </a:r>
            <a:r>
              <a:rPr b="1" lang="sr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18"/>
          <p:cNvSpPr/>
          <p:nvPr/>
        </p:nvSpPr>
        <p:spPr>
          <a:xfrm>
            <a:off x="5034240" y="462276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Object 14"/>
              <p:cNvSpPr txBox="1"/>
              <p:nvPr/>
            </p:nvSpPr>
            <p:spPr>
              <a:xfrm>
                <a:off x="4176720" y="4551480"/>
                <a:ext cx="950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4"/>
          <p:cNvSpPr/>
          <p:nvPr/>
        </p:nvSpPr>
        <p:spPr>
          <a:xfrm>
            <a:off x="2916360" y="981000"/>
            <a:ext cx="352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жење сулф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5"/>
          <p:cNvSpPr/>
          <p:nvPr/>
        </p:nvSpPr>
        <p:spPr>
          <a:xfrm>
            <a:off x="639720" y="3424320"/>
            <a:ext cx="381636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sr-Latn-C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S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‾+ 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sr-Latn-C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7"/>
          <p:cNvSpPr/>
          <p:nvPr/>
        </p:nvSpPr>
        <p:spPr>
          <a:xfrm>
            <a:off x="0" y="288432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5" name="Object 2"/>
              <p:cNvSpPr txBox="1"/>
              <p:nvPr/>
            </p:nvSpPr>
            <p:spPr>
              <a:xfrm>
                <a:off x="539640" y="4470480"/>
                <a:ext cx="27640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S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Rectangle 9"/>
          <p:cNvSpPr/>
          <p:nvPr/>
        </p:nvSpPr>
        <p:spPr>
          <a:xfrm>
            <a:off x="0" y="287496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Object 3"/>
              <p:cNvSpPr txBox="1"/>
              <p:nvPr/>
            </p:nvSpPr>
            <p:spPr>
              <a:xfrm>
                <a:off x="684360" y="5549760"/>
                <a:ext cx="27241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S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8" name="Rectangle 5"/>
          <p:cNvSpPr/>
          <p:nvPr/>
        </p:nvSpPr>
        <p:spPr>
          <a:xfrm>
            <a:off x="0" y="-29196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Object 4"/>
              <p:cNvSpPr txBox="1"/>
              <p:nvPr/>
            </p:nvSpPr>
            <p:spPr>
              <a:xfrm>
                <a:off x="4716360" y="4325760"/>
                <a:ext cx="3238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0" name="Right Arrow 11"/>
          <p:cNvSpPr/>
          <p:nvPr/>
        </p:nvSpPr>
        <p:spPr>
          <a:xfrm>
            <a:off x="3851280" y="47577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7"/>
          <p:cNvSpPr/>
          <p:nvPr/>
        </p:nvSpPr>
        <p:spPr>
          <a:xfrm>
            <a:off x="0" y="-29196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Object 5"/>
              <p:cNvSpPr txBox="1"/>
              <p:nvPr/>
            </p:nvSpPr>
            <p:spPr>
              <a:xfrm>
                <a:off x="4932360" y="5478480"/>
                <a:ext cx="32180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3" name="Right Arrow 14"/>
          <p:cNvSpPr/>
          <p:nvPr/>
        </p:nvSpPr>
        <p:spPr>
          <a:xfrm>
            <a:off x="3851280" y="5837400"/>
            <a:ext cx="504720" cy="21564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5"/>
          <p:cNvSpPr/>
          <p:nvPr/>
        </p:nvSpPr>
        <p:spPr>
          <a:xfrm>
            <a:off x="0" y="1427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вајање јона метала таложењем у облику сулфида представља пример метода раздвајања код којих се контролисана концентрација таложног анјона одржава регулисањем концентрације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у раств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16"/>
          <p:cNvSpPr/>
          <p:nvPr/>
        </p:nvSpPr>
        <p:spPr>
          <a:xfrm>
            <a:off x="639720" y="2997360"/>
            <a:ext cx="4969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слаба двобазна кисел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6" name="Object 2"/>
              <p:cNvSpPr txBox="1"/>
              <p:nvPr/>
            </p:nvSpPr>
            <p:spPr>
              <a:xfrm>
                <a:off x="611280" y="981000"/>
                <a:ext cx="3281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Object 3"/>
              <p:cNvSpPr txBox="1"/>
              <p:nvPr/>
            </p:nvSpPr>
            <p:spPr>
              <a:xfrm>
                <a:off x="5076720" y="1052640"/>
                <a:ext cx="298944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8" name="Right Arrow 7"/>
          <p:cNvSpPr/>
          <p:nvPr/>
        </p:nvSpPr>
        <p:spPr>
          <a:xfrm>
            <a:off x="4067280" y="1557360"/>
            <a:ext cx="576000" cy="71280"/>
          </a:xfrm>
          <a:prstGeom prst="rightArrow">
            <a:avLst>
              <a:gd name="adj1" fmla="val 50000"/>
              <a:gd name="adj2" fmla="val 500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4"/>
          <p:cNvSpPr/>
          <p:nvPr/>
        </p:nvSpPr>
        <p:spPr>
          <a:xfrm>
            <a:off x="108000" y="2205000"/>
            <a:ext cx="9036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зависи од 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, односно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же pH вредности        ниска концентрација [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таложе с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иди мале вредноси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е pH вредности        виша концентрација [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таложе с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фиди више вредноси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5"/>
          <p:cNvSpPr/>
          <p:nvPr/>
        </p:nvSpPr>
        <p:spPr>
          <a:xfrm>
            <a:off x="76320" y="4581360"/>
            <a:ext cx="70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сањем pH врши се одвајање катј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ight Arrow 11"/>
          <p:cNvSpPr/>
          <p:nvPr/>
        </p:nvSpPr>
        <p:spPr>
          <a:xfrm>
            <a:off x="2647800" y="5232240"/>
            <a:ext cx="13575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7"/>
          <p:cNvSpPr/>
          <p:nvPr/>
        </p:nvSpPr>
        <p:spPr>
          <a:xfrm>
            <a:off x="3157560" y="534816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8"/>
          <p:cNvSpPr/>
          <p:nvPr/>
        </p:nvSpPr>
        <p:spPr>
          <a:xfrm>
            <a:off x="4066920" y="514512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, IV и V аналитичк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Down Arrow 14"/>
          <p:cNvSpPr/>
          <p:nvPr/>
        </p:nvSpPr>
        <p:spPr>
          <a:xfrm>
            <a:off x="2611440" y="5445000"/>
            <a:ext cx="214200" cy="1071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11"/>
          <p:cNvSpPr/>
          <p:nvPr/>
        </p:nvSpPr>
        <p:spPr>
          <a:xfrm>
            <a:off x="2270160" y="55562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12"/>
          <p:cNvSpPr/>
          <p:nvPr/>
        </p:nvSpPr>
        <p:spPr>
          <a:xfrm>
            <a:off x="1949040" y="637056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аналитичк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7" name="Straight Arrow Connector 2"/>
          <p:cNvCxnSpPr/>
          <p:nvPr/>
        </p:nvCxnSpPr>
        <p:spPr>
          <a:xfrm>
            <a:off x="3035160" y="3212640"/>
            <a:ext cx="393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8" name="Straight Arrow Connector 17"/>
          <p:cNvCxnSpPr/>
          <p:nvPr/>
        </p:nvCxnSpPr>
        <p:spPr>
          <a:xfrm>
            <a:off x="7132320" y="3200040"/>
            <a:ext cx="392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9" name="Straight Arrow Connector 18"/>
          <p:cNvCxnSpPr/>
          <p:nvPr/>
        </p:nvCxnSpPr>
        <p:spPr>
          <a:xfrm>
            <a:off x="3035160" y="3933360"/>
            <a:ext cx="393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0" name="Straight Arrow Connector 19"/>
          <p:cNvCxnSpPr/>
          <p:nvPr/>
        </p:nvCxnSpPr>
        <p:spPr>
          <a:xfrm>
            <a:off x="7132320" y="3928680"/>
            <a:ext cx="392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6"/>
          <p:cNvSpPr/>
          <p:nvPr/>
        </p:nvSpPr>
        <p:spPr>
          <a:xfrm>
            <a:off x="539640" y="6159240"/>
            <a:ext cx="79200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2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sr-Latn-C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dS</a:t>
            </a:r>
            <a:r>
              <a:rPr b="1" lang="sr-Latn-C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Box 2"/>
          <p:cNvSpPr/>
          <p:nvPr/>
        </p:nvSpPr>
        <p:spPr>
          <a:xfrm>
            <a:off x="182520" y="857160"/>
            <a:ext cx="874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јање сулфида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таложи последњи из II групе, а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ви из III групе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3" name="Object 2"/>
              <p:cNvSpPr txBox="1"/>
              <p:nvPr/>
            </p:nvSpPr>
            <p:spPr>
              <a:xfrm>
                <a:off x="639720" y="2924280"/>
                <a:ext cx="4753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,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,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94" name="TextBox 4"/>
          <p:cNvSpPr/>
          <p:nvPr/>
        </p:nvSpPr>
        <p:spPr>
          <a:xfrm>
            <a:off x="6656400" y="1928880"/>
            <a:ext cx="2487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dS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6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5" name="Object 4"/>
              <p:cNvSpPr txBox="1"/>
              <p:nvPr/>
            </p:nvSpPr>
            <p:spPr>
              <a:xfrm>
                <a:off x="639720" y="3808440"/>
                <a:ext cx="2592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2</m:t>
                            </m:r>
                          </m:sub>
                        </m:sSub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Object 5"/>
              <p:cNvSpPr txBox="1"/>
              <p:nvPr/>
            </p:nvSpPr>
            <p:spPr>
              <a:xfrm>
                <a:off x="639720" y="4797360"/>
                <a:ext cx="4103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,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,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6"/>
              <p:cNvSpPr txBox="1"/>
              <p:nvPr/>
            </p:nvSpPr>
            <p:spPr>
              <a:xfrm>
                <a:off x="1763640" y="5711760"/>
                <a:ext cx="2737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,4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/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98" name="Rectangle 12"/>
          <p:cNvSpPr/>
          <p:nvPr/>
        </p:nvSpPr>
        <p:spPr>
          <a:xfrm>
            <a:off x="5443560" y="5661000"/>
            <a:ext cx="14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ight Arrow 13"/>
          <p:cNvSpPr/>
          <p:nvPr/>
        </p:nvSpPr>
        <p:spPr>
          <a:xfrm>
            <a:off x="3851280" y="5661000"/>
            <a:ext cx="792000" cy="144360"/>
          </a:xfrm>
          <a:prstGeom prst="rightArrow">
            <a:avLst>
              <a:gd name="adj1" fmla="val 50000"/>
              <a:gd name="adj2" fmla="val 500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Object 15"/>
          <p:cNvGraphicFramePr/>
          <p:nvPr/>
        </p:nvGraphicFramePr>
        <p:xfrm>
          <a:off x="4786200" y="2000160"/>
          <a:ext cx="166068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2000160"/>
                    <a:ext cx="1660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2" name="TextBox 12"/>
          <p:cNvSpPr/>
          <p:nvPr/>
        </p:nvSpPr>
        <p:spPr>
          <a:xfrm>
            <a:off x="0" y="2421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вантитативно таложе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3" name="Object 14"/>
              <p:cNvSpPr txBox="1"/>
              <p:nvPr/>
            </p:nvSpPr>
            <p:spPr>
              <a:xfrm>
                <a:off x="4140360" y="2349360"/>
                <a:ext cx="31082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/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4" name="Right Arrow 17"/>
          <p:cNvSpPr/>
          <p:nvPr/>
        </p:nvSpPr>
        <p:spPr>
          <a:xfrm>
            <a:off x="4716360" y="5805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TextBox 1"/>
          <p:cNvSpPr/>
          <p:nvPr/>
        </p:nvSpPr>
        <p:spPr>
          <a:xfrm>
            <a:off x="6357960" y="1571760"/>
            <a:ext cx="242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nS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Object 2"/>
              <p:cNvSpPr txBox="1"/>
              <p:nvPr/>
            </p:nvSpPr>
            <p:spPr>
              <a:xfrm>
                <a:off x="1174680" y="1978200"/>
                <a:ext cx="3467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Object 3"/>
              <p:cNvSpPr txBox="1"/>
              <p:nvPr/>
            </p:nvSpPr>
            <p:spPr>
              <a:xfrm>
                <a:off x="1187280" y="3057480"/>
                <a:ext cx="1859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2</m:t>
                            </m:r>
                          </m:sub>
                        </m:sSub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Object 4"/>
              <p:cNvSpPr txBox="1"/>
              <p:nvPr/>
            </p:nvSpPr>
            <p:spPr>
              <a:xfrm>
                <a:off x="1116000" y="4210200"/>
                <a:ext cx="3052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,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,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9" name="TextBox 5"/>
          <p:cNvSpPr/>
          <p:nvPr/>
        </p:nvSpPr>
        <p:spPr>
          <a:xfrm>
            <a:off x="250920" y="1052640"/>
            <a:ext cx="619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е при овим условима таложи Z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0" name="Object 5"/>
              <p:cNvSpPr txBox="1"/>
              <p:nvPr/>
            </p:nvSpPr>
            <p:spPr>
              <a:xfrm>
                <a:off x="971640" y="5218200"/>
                <a:ext cx="2879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,07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/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1" name="Rectangle 8"/>
          <p:cNvSpPr/>
          <p:nvPr/>
        </p:nvSpPr>
        <p:spPr>
          <a:xfrm>
            <a:off x="5229000" y="5245200"/>
            <a:ext cx="145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ight Arrow 9"/>
          <p:cNvSpPr/>
          <p:nvPr/>
        </p:nvSpPr>
        <p:spPr>
          <a:xfrm>
            <a:off x="3851280" y="5433840"/>
            <a:ext cx="792000" cy="144720"/>
          </a:xfrm>
          <a:prstGeom prst="rightArrow">
            <a:avLst>
              <a:gd name="adj1" fmla="val 50000"/>
              <a:gd name="adj2" fmla="val 49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10"/>
          <p:cNvSpPr/>
          <p:nvPr/>
        </p:nvSpPr>
        <p:spPr>
          <a:xfrm>
            <a:off x="108000" y="5805360"/>
            <a:ext cx="896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ће почети таложење при квантитативном таложењу Cd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[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0,44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ight Arrow 11"/>
          <p:cNvSpPr/>
          <p:nvPr/>
        </p:nvSpPr>
        <p:spPr>
          <a:xfrm>
            <a:off x="4500720" y="5433840"/>
            <a:ext cx="431640" cy="14472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395280" y="981000"/>
            <a:ext cx="84963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дентатни лиганд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елатни лиганди, хелатни аген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ују с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ета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више од једног донор атом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 молекул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-, три-, квадри-, пента-, хексадентатни лиганд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Object 13"/>
          <p:cNvGraphicFramePr/>
          <p:nvPr/>
        </p:nvGraphicFramePr>
        <p:xfrm>
          <a:off x="2124000" y="4853160"/>
          <a:ext cx="3527640" cy="14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853160"/>
                    <a:ext cx="35276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Rectangle 3"/>
          <p:cNvSpPr/>
          <p:nvPr/>
        </p:nvSpPr>
        <p:spPr>
          <a:xfrm>
            <a:off x="4001400" y="5373720"/>
            <a:ext cx="2014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лиг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571680" y="42148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 лиг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395280" y="1197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 лиганд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дентатни лиг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Object 3"/>
          <p:cNvGraphicFramePr/>
          <p:nvPr/>
        </p:nvGraphicFramePr>
        <p:xfrm>
          <a:off x="179280" y="2133720"/>
          <a:ext cx="3240360" cy="108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133720"/>
                    <a:ext cx="324036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Object 4"/>
          <p:cNvGraphicFramePr/>
          <p:nvPr/>
        </p:nvGraphicFramePr>
        <p:xfrm>
          <a:off x="3780000" y="2276640"/>
          <a:ext cx="5219640" cy="98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276640"/>
                    <a:ext cx="5219640" cy="98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Rectangle 5"/>
          <p:cNvSpPr/>
          <p:nvPr/>
        </p:nvSpPr>
        <p:spPr>
          <a:xfrm>
            <a:off x="418680" y="3657600"/>
            <a:ext cx="23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диамин (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4545720" y="365760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тилентриамин (d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7"/>
          <p:cNvSpPr/>
          <p:nvPr/>
        </p:nvSpPr>
        <p:spPr>
          <a:xfrm flipV="1">
            <a:off x="393840" y="3159000"/>
            <a:ext cx="7272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8"/>
          <p:cNvSpPr/>
          <p:nvPr/>
        </p:nvSpPr>
        <p:spPr>
          <a:xfrm flipH="1" flipV="1">
            <a:off x="2914200" y="3212640"/>
            <a:ext cx="73080" cy="50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9"/>
          <p:cNvSpPr/>
          <p:nvPr/>
        </p:nvSpPr>
        <p:spPr>
          <a:xfrm flipV="1">
            <a:off x="4140360" y="3141720"/>
            <a:ext cx="7272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0"/>
          <p:cNvSpPr/>
          <p:nvPr/>
        </p:nvSpPr>
        <p:spPr>
          <a:xfrm flipV="1">
            <a:off x="6227640" y="3213000"/>
            <a:ext cx="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1"/>
          <p:cNvSpPr/>
          <p:nvPr/>
        </p:nvSpPr>
        <p:spPr>
          <a:xfrm flipH="1" flipV="1">
            <a:off x="8604360" y="3284640"/>
            <a:ext cx="7128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0" name="Object 12"/>
          <p:cNvGraphicFramePr/>
          <p:nvPr/>
        </p:nvGraphicFramePr>
        <p:xfrm>
          <a:off x="642960" y="4572000"/>
          <a:ext cx="2879640" cy="17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60" y="4572000"/>
                    <a:ext cx="2879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5"/>
          <p:cNvSpPr/>
          <p:nvPr/>
        </p:nvSpPr>
        <p:spPr>
          <a:xfrm>
            <a:off x="785880" y="1143000"/>
            <a:ext cx="34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дридентатни лиг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642960" y="39290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адентатни лиг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"/>
          <p:cNvSpPr/>
          <p:nvPr/>
        </p:nvSpPr>
        <p:spPr>
          <a:xfrm>
            <a:off x="1285920" y="6215040"/>
            <a:ext cx="7215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и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N,N’,N’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сирћетн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Object 7"/>
          <p:cNvGraphicFramePr/>
          <p:nvPr/>
        </p:nvGraphicFramePr>
        <p:xfrm>
          <a:off x="3286080" y="1571760"/>
          <a:ext cx="2282760" cy="22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1571760"/>
                    <a:ext cx="2282760" cy="22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Object 3"/>
          <p:cNvGraphicFramePr/>
          <p:nvPr/>
        </p:nvGraphicFramePr>
        <p:xfrm>
          <a:off x="2571840" y="4429080"/>
          <a:ext cx="493560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4429080"/>
                    <a:ext cx="49356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4"/>
          <p:cNvSpPr/>
          <p:nvPr/>
        </p:nvSpPr>
        <p:spPr>
          <a:xfrm>
            <a:off x="785880" y="3714840"/>
            <a:ext cx="7429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чешћ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у парни координациони броје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, 4, 6,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u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g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5"/>
          <p:cNvSpPr/>
          <p:nvPr/>
        </p:nvSpPr>
        <p:spPr>
          <a:xfrm>
            <a:off x="325440" y="2643120"/>
            <a:ext cx="881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и број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донор атома везаних за метални јо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6"/>
          <p:cNvSpPr/>
          <p:nvPr/>
        </p:nvSpPr>
        <p:spPr>
          <a:xfrm>
            <a:off x="5165640" y="2316240"/>
            <a:ext cx="297000" cy="284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2786040" y="1928880"/>
            <a:ext cx="3000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5"/>
          <p:cNvSpPr/>
          <p:nvPr/>
        </p:nvSpPr>
        <p:spPr>
          <a:xfrm>
            <a:off x="1285920" y="1071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комплекса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ординациони бро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Corporate Edition</cp:lastModifiedBy>
  <dcterms:modified xsi:type="dcterms:W3CDTF">2017-09-27T13:48:33Z</dcterms:modified>
  <cp:revision>490</cp:revision>
  <dc:subject/>
  <dc:title>Slide 1</dc:title>
</cp:coreProperties>
</file>